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A62-0F8E-4DE6-80A9-E77BC73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1F9-D6E9-4FCF-8851-8CD70D2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E1C-B079-4EC1-A26B-C1CD1D36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855-E58B-46FD-89C3-59422EAC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19F-315E-4D06-844F-6B962D5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C90-B16C-4694-945A-27790FC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823-6669-41E3-987E-5BE937B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60F-FBEF-4D51-B338-02022641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0E7-AF7C-458C-B500-CEDA18E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7D6-1DDE-45FC-8E37-C6C3E086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4E1-037A-46B9-AD31-7AB47B2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4D4-C19E-428B-B941-0735868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288-A45D-445D-A27B-7A228255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Dec.12 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-3)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7000" y="1820880"/>
            <a:ext cx="15084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6573" y="5159"/>
                </a:moveTo>
                <a:cubicBezTo>
                  <a:pt x="6685" y="5125"/>
                  <a:pt x="6894" y="5037"/>
                  <a:pt x="6995" y="5060"/>
                </a:cubicBezTo>
                <a:cubicBezTo>
                  <a:pt x="6995" y="5125"/>
                  <a:pt x="6961" y="5154"/>
                  <a:pt x="6871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20960" y="1652760"/>
            <a:ext cx="277920" cy="26820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7863" y="4688"/>
                </a:moveTo>
                <a:cubicBezTo>
                  <a:pt x="7863" y="4897"/>
                  <a:pt x="7871" y="5103"/>
                  <a:pt x="7838" y="5308"/>
                </a:cubicBezTo>
              </a:path>
              <a:path w="770" h="745">
                <a:moveTo>
                  <a:pt x="8434" y="4589"/>
                </a:moveTo>
                <a:cubicBezTo>
                  <a:pt x="8325" y="4657"/>
                  <a:pt x="8265" y="4709"/>
                  <a:pt x="8186" y="4812"/>
                </a:cubicBezTo>
                <a:cubicBezTo>
                  <a:pt x="8315" y="4943"/>
                  <a:pt x="8534" y="4994"/>
                  <a:pt x="8607" y="5184"/>
                </a:cubicBezTo>
                <a:cubicBezTo>
                  <a:pt x="8679" y="5371"/>
                  <a:pt x="8447" y="5313"/>
                  <a:pt x="8359" y="5308"/>
                </a:cubicBezTo>
                <a:cubicBezTo>
                  <a:pt x="8346" y="5090"/>
                  <a:pt x="8472" y="4945"/>
                  <a:pt x="8558" y="4738"/>
                </a:cubicBezTo>
                <a:cubicBezTo>
                  <a:pt x="8581" y="4682"/>
                  <a:pt x="8611" y="4626"/>
                  <a:pt x="8558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9200" y="1866960"/>
            <a:ext cx="206640" cy="3724200"/>
          </a:xfrm>
          <a:custGeom>
            <a:avLst/>
            <a:gdLst/>
            <a:ahLst/>
            <a:rect l="l" t="t" r="r" b="b"/>
            <a:pathLst>
              <a:path w="572" h="10345">
                <a:moveTo>
                  <a:pt x="6722" y="5259"/>
                </a:moveTo>
                <a:cubicBezTo>
                  <a:pt x="6880" y="5246"/>
                  <a:pt x="7037" y="5214"/>
                  <a:pt x="7193" y="5184"/>
                </a:cubicBezTo>
              </a:path>
              <a:path w="572" h="10345">
                <a:moveTo>
                  <a:pt x="6921" y="10071"/>
                </a:moveTo>
                <a:cubicBezTo>
                  <a:pt x="6997" y="10047"/>
                  <a:pt x="7065" y="10029"/>
                  <a:pt x="7144" y="10021"/>
                </a:cubicBezTo>
              </a:path>
              <a:path w="572" h="10345">
                <a:moveTo>
                  <a:pt x="7069" y="15528"/>
                </a:moveTo>
                <a:cubicBezTo>
                  <a:pt x="7143" y="15509"/>
                  <a:pt x="7218" y="15489"/>
                  <a:pt x="7293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0720" y="3483000"/>
            <a:ext cx="16956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9302" y="9674"/>
                </a:moveTo>
                <a:cubicBezTo>
                  <a:pt x="9336" y="9741"/>
                  <a:pt x="9264" y="9912"/>
                  <a:pt x="9252" y="10021"/>
                </a:cubicBezTo>
                <a:cubicBezTo>
                  <a:pt x="9236" y="10172"/>
                  <a:pt x="9293" y="10257"/>
                  <a:pt x="9451" y="10244"/>
                </a:cubicBezTo>
                <a:cubicBezTo>
                  <a:pt x="9586" y="10233"/>
                  <a:pt x="9650" y="10182"/>
                  <a:pt x="9699" y="10071"/>
                </a:cubicBezTo>
                <a:cubicBezTo>
                  <a:pt x="9707" y="10054"/>
                  <a:pt x="9715" y="10038"/>
                  <a:pt x="9723" y="10021"/>
                </a:cubicBezTo>
                <a:cubicBezTo>
                  <a:pt x="9622" y="10010"/>
                  <a:pt x="9572" y="9977"/>
                  <a:pt x="9500" y="10071"/>
                </a:cubicBezTo>
                <a:cubicBezTo>
                  <a:pt x="9465" y="10117"/>
                  <a:pt x="9475" y="10167"/>
                  <a:pt x="9475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9240" y="3473280"/>
            <a:ext cx="287640" cy="24156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8830" y="9798"/>
                </a:moveTo>
                <a:cubicBezTo>
                  <a:pt x="8830" y="9740"/>
                  <a:pt x="8800" y="9721"/>
                  <a:pt x="8781" y="9674"/>
                </a:cubicBezTo>
                <a:cubicBezTo>
                  <a:pt x="8751" y="9600"/>
                  <a:pt x="8647" y="9690"/>
                  <a:pt x="8632" y="9748"/>
                </a:cubicBezTo>
                <a:cubicBezTo>
                  <a:pt x="8599" y="9871"/>
                  <a:pt x="8652" y="9970"/>
                  <a:pt x="8781" y="9947"/>
                </a:cubicBezTo>
                <a:cubicBezTo>
                  <a:pt x="8891" y="9928"/>
                  <a:pt x="8880" y="9831"/>
                  <a:pt x="8880" y="9748"/>
                </a:cubicBezTo>
                <a:cubicBezTo>
                  <a:pt x="8880" y="9883"/>
                  <a:pt x="8897" y="10012"/>
                  <a:pt x="8905" y="10145"/>
                </a:cubicBezTo>
                <a:cubicBezTo>
                  <a:pt x="8908" y="10201"/>
                  <a:pt x="8905" y="10262"/>
                  <a:pt x="8905" y="10319"/>
                </a:cubicBezTo>
              </a:path>
              <a:path w="795" h="671">
                <a:moveTo>
                  <a:pt x="8111" y="9947"/>
                </a:moveTo>
                <a:cubicBezTo>
                  <a:pt x="8183" y="9947"/>
                  <a:pt x="8241" y="9928"/>
                  <a:pt x="8310" y="9922"/>
                </a:cubicBezTo>
                <a:cubicBezTo>
                  <a:pt x="8318" y="9922"/>
                  <a:pt x="8326" y="9922"/>
                  <a:pt x="833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90840" y="3660840"/>
            <a:ext cx="98280" cy="9360"/>
          </a:xfrm>
          <a:custGeom>
            <a:avLst/>
            <a:gdLst/>
            <a:ahLst/>
            <a:rect l="l" t="t" r="r" b="b"/>
            <a:pathLst>
              <a:path w="273" h="26">
                <a:moveTo>
                  <a:pt x="6921" y="10195"/>
                </a:moveTo>
                <a:cubicBezTo>
                  <a:pt x="7013" y="10188"/>
                  <a:pt x="7101" y="10170"/>
                  <a:pt x="7193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4000" y="5483160"/>
            <a:ext cx="1411200" cy="411120"/>
          </a:xfrm>
          <a:custGeom>
            <a:avLst/>
            <a:gdLst/>
            <a:ahLst/>
            <a:rect l="l" t="t" r="r" b="b"/>
            <a:pathLst>
              <a:path w="3920" h="1142">
                <a:moveTo>
                  <a:pt x="3398" y="15230"/>
                </a:moveTo>
                <a:cubicBezTo>
                  <a:pt x="3398" y="15338"/>
                  <a:pt x="3419" y="15444"/>
                  <a:pt x="3423" y="15553"/>
                </a:cubicBezTo>
                <a:cubicBezTo>
                  <a:pt x="3423" y="15561"/>
                  <a:pt x="3423" y="15569"/>
                  <a:pt x="3423" y="15577"/>
                </a:cubicBezTo>
                <a:cubicBezTo>
                  <a:pt x="3607" y="15557"/>
                  <a:pt x="3779" y="15489"/>
                  <a:pt x="3969" y="15478"/>
                </a:cubicBezTo>
                <a:cubicBezTo>
                  <a:pt x="4198" y="15464"/>
                  <a:pt x="4376" y="15526"/>
                  <a:pt x="4589" y="15553"/>
                </a:cubicBezTo>
                <a:cubicBezTo>
                  <a:pt x="4597" y="15553"/>
                  <a:pt x="4606" y="15553"/>
                  <a:pt x="4614" y="15553"/>
                </a:cubicBezTo>
                <a:cubicBezTo>
                  <a:pt x="4590" y="15482"/>
                  <a:pt x="4571" y="15405"/>
                  <a:pt x="4564" y="15329"/>
                </a:cubicBezTo>
                <a:cubicBezTo>
                  <a:pt x="4564" y="15321"/>
                  <a:pt x="4564" y="15312"/>
                  <a:pt x="4564" y="15304"/>
                </a:cubicBezTo>
              </a:path>
              <a:path w="3920" h="1142">
                <a:moveTo>
                  <a:pt x="4068" y="15999"/>
                </a:moveTo>
                <a:cubicBezTo>
                  <a:pt x="4092" y="16083"/>
                  <a:pt x="4096" y="16311"/>
                  <a:pt x="4142" y="16371"/>
                </a:cubicBezTo>
                <a:cubicBezTo>
                  <a:pt x="4150" y="16363"/>
                  <a:pt x="4159" y="16354"/>
                  <a:pt x="4167" y="16346"/>
                </a:cubicBezTo>
              </a:path>
              <a:path w="3920" h="1142">
                <a:moveTo>
                  <a:pt x="4589" y="15949"/>
                </a:moveTo>
                <a:cubicBezTo>
                  <a:pt x="4538" y="16000"/>
                  <a:pt x="4488" y="16031"/>
                  <a:pt x="4440" y="16073"/>
                </a:cubicBezTo>
                <a:cubicBezTo>
                  <a:pt x="4412" y="16101"/>
                  <a:pt x="4403" y="16115"/>
                  <a:pt x="4415" y="16148"/>
                </a:cubicBezTo>
                <a:cubicBezTo>
                  <a:pt x="4509" y="16116"/>
                  <a:pt x="4580" y="16062"/>
                  <a:pt x="4688" y="16123"/>
                </a:cubicBezTo>
                <a:cubicBezTo>
                  <a:pt x="4778" y="16174"/>
                  <a:pt x="4756" y="16311"/>
                  <a:pt x="4663" y="16321"/>
                </a:cubicBezTo>
                <a:cubicBezTo>
                  <a:pt x="4564" y="16332"/>
                  <a:pt x="4482" y="16300"/>
                  <a:pt x="4390" y="16272"/>
                </a:cubicBezTo>
              </a:path>
              <a:path w="3920" h="1142">
                <a:moveTo>
                  <a:pt x="5011" y="16148"/>
                </a:moveTo>
                <a:cubicBezTo>
                  <a:pt x="5197" y="16131"/>
                  <a:pt x="5368" y="16066"/>
                  <a:pt x="5556" y="16049"/>
                </a:cubicBezTo>
                <a:cubicBezTo>
                  <a:pt x="5763" y="16030"/>
                  <a:pt x="6002" y="16039"/>
                  <a:pt x="6201" y="16073"/>
                </a:cubicBezTo>
                <a:cubicBezTo>
                  <a:pt x="6209" y="16073"/>
                  <a:pt x="6218" y="16073"/>
                  <a:pt x="6226" y="16073"/>
                </a:cubicBezTo>
                <a:cubicBezTo>
                  <a:pt x="6205" y="15923"/>
                  <a:pt x="6201" y="15780"/>
                  <a:pt x="6201" y="15627"/>
                </a:cubicBezTo>
                <a:cubicBezTo>
                  <a:pt x="6201" y="15602"/>
                  <a:pt x="6201" y="15594"/>
                  <a:pt x="6201" y="15577"/>
                </a:cubicBezTo>
              </a:path>
              <a:path w="3920" h="1142">
                <a:moveTo>
                  <a:pt x="6970" y="15404"/>
                </a:moveTo>
                <a:cubicBezTo>
                  <a:pt x="7081" y="15376"/>
                  <a:pt x="7183" y="15314"/>
                  <a:pt x="7293" y="15280"/>
                </a:cubicBezTo>
                <a:cubicBezTo>
                  <a:pt x="7301" y="15280"/>
                  <a:pt x="7309" y="15280"/>
                  <a:pt x="7317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24200" y="5429160"/>
            <a:ext cx="142920" cy="231840"/>
          </a:xfrm>
          <a:custGeom>
            <a:avLst/>
            <a:gdLst/>
            <a:ahLst/>
            <a:rect l="l" t="t" r="r" b="b"/>
            <a:pathLst>
              <a:path w="397" h="646">
                <a:moveTo>
                  <a:pt x="10666" y="15081"/>
                </a:moveTo>
                <a:cubicBezTo>
                  <a:pt x="10602" y="15100"/>
                  <a:pt x="10457" y="15079"/>
                  <a:pt x="10418" y="15131"/>
                </a:cubicBezTo>
                <a:cubicBezTo>
                  <a:pt x="10362" y="15206"/>
                  <a:pt x="10369" y="15341"/>
                  <a:pt x="10344" y="15429"/>
                </a:cubicBezTo>
                <a:cubicBezTo>
                  <a:pt x="10432" y="15429"/>
                  <a:pt x="10472" y="15354"/>
                  <a:pt x="10567" y="15354"/>
                </a:cubicBezTo>
                <a:cubicBezTo>
                  <a:pt x="10729" y="15354"/>
                  <a:pt x="10809" y="15534"/>
                  <a:pt x="10691" y="15652"/>
                </a:cubicBezTo>
                <a:cubicBezTo>
                  <a:pt x="10613" y="15730"/>
                  <a:pt x="10469" y="15726"/>
                  <a:pt x="1036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8080" y="5419800"/>
            <a:ext cx="420840" cy="241200"/>
          </a:xfrm>
          <a:custGeom>
            <a:avLst/>
            <a:gdLst/>
            <a:ahLst/>
            <a:rect l="l" t="t" r="r" b="b"/>
            <a:pathLst>
              <a:path w="1167" h="671">
                <a:moveTo>
                  <a:pt x="9401" y="15180"/>
                </a:moveTo>
                <a:cubicBezTo>
                  <a:pt x="9341" y="15301"/>
                  <a:pt x="9340" y="15509"/>
                  <a:pt x="9327" y="15652"/>
                </a:cubicBezTo>
                <a:cubicBezTo>
                  <a:pt x="9327" y="15718"/>
                  <a:pt x="9327" y="15751"/>
                  <a:pt x="9327" y="15677"/>
                </a:cubicBezTo>
              </a:path>
              <a:path w="1167" h="671">
                <a:moveTo>
                  <a:pt x="9674" y="15156"/>
                </a:moveTo>
                <a:cubicBezTo>
                  <a:pt x="9714" y="15116"/>
                  <a:pt x="9754" y="15078"/>
                  <a:pt x="9798" y="15056"/>
                </a:cubicBezTo>
                <a:cubicBezTo>
                  <a:pt x="9925" y="15111"/>
                  <a:pt x="9874" y="15206"/>
                  <a:pt x="9798" y="15304"/>
                </a:cubicBezTo>
                <a:cubicBezTo>
                  <a:pt x="9775" y="15327"/>
                  <a:pt x="9767" y="15331"/>
                  <a:pt x="9773" y="15354"/>
                </a:cubicBezTo>
                <a:cubicBezTo>
                  <a:pt x="9714" y="15354"/>
                  <a:pt x="9873" y="15317"/>
                  <a:pt x="9897" y="15329"/>
                </a:cubicBezTo>
                <a:cubicBezTo>
                  <a:pt x="10082" y="15422"/>
                  <a:pt x="9968" y="15602"/>
                  <a:pt x="9847" y="15677"/>
                </a:cubicBezTo>
                <a:cubicBezTo>
                  <a:pt x="9787" y="15697"/>
                  <a:pt x="9772" y="15715"/>
                  <a:pt x="9748" y="15677"/>
                </a:cubicBezTo>
              </a:path>
              <a:path w="1167" h="671">
                <a:moveTo>
                  <a:pt x="8830" y="15354"/>
                </a:moveTo>
                <a:cubicBezTo>
                  <a:pt x="8863" y="15329"/>
                  <a:pt x="8994" y="15294"/>
                  <a:pt x="9029" y="15304"/>
                </a:cubicBezTo>
                <a:cubicBezTo>
                  <a:pt x="9021" y="15312"/>
                  <a:pt x="9012" y="15321"/>
                  <a:pt x="900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Same Signs:  Posi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Different Signs: Nega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511"/>
                </a:solidFill>
                <a:latin typeface="Kristen ITC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3733920"/>
          <a:ext cx="1179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733920"/>
                    <a:ext cx="117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118200" y="3886200"/>
          <a:ext cx="13366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8200" y="3886200"/>
                    <a:ext cx="1336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374840" y="4116240"/>
            <a:ext cx="152280" cy="411480"/>
          </a:xfrm>
          <a:custGeom>
            <a:avLst/>
            <a:gdLst/>
            <a:ahLst/>
            <a:rect l="l" t="t" r="r" b="b"/>
            <a:pathLst>
              <a:path w="423" h="1142">
                <a:moveTo>
                  <a:pt x="3919" y="11857"/>
                </a:moveTo>
                <a:cubicBezTo>
                  <a:pt x="3919" y="12008"/>
                  <a:pt x="3936" y="12153"/>
                  <a:pt x="3944" y="12303"/>
                </a:cubicBezTo>
              </a:path>
              <a:path w="423" h="1142">
                <a:moveTo>
                  <a:pt x="3820" y="11435"/>
                </a:moveTo>
                <a:cubicBezTo>
                  <a:pt x="4060" y="11635"/>
                  <a:pt x="4287" y="11833"/>
                  <a:pt x="4242" y="12179"/>
                </a:cubicBezTo>
                <a:cubicBezTo>
                  <a:pt x="4228" y="12284"/>
                  <a:pt x="4097" y="12577"/>
                  <a:pt x="3944" y="12576"/>
                </a:cubicBezTo>
                <a:cubicBezTo>
                  <a:pt x="3944" y="12568"/>
                  <a:pt x="3944" y="12559"/>
                  <a:pt x="394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5330880"/>
            <a:ext cx="223920" cy="581040"/>
          </a:xfrm>
          <a:custGeom>
            <a:avLst/>
            <a:gdLst/>
            <a:ahLst/>
            <a:rect l="l" t="t" r="r" b="b"/>
            <a:pathLst>
              <a:path w="621" h="1614">
                <a:moveTo>
                  <a:pt x="3597" y="15354"/>
                </a:moveTo>
                <a:cubicBezTo>
                  <a:pt x="3612" y="15277"/>
                  <a:pt x="3666" y="15226"/>
                  <a:pt x="3746" y="15205"/>
                </a:cubicBezTo>
                <a:cubicBezTo>
                  <a:pt x="3883" y="15169"/>
                  <a:pt x="3832" y="15331"/>
                  <a:pt x="3820" y="15404"/>
                </a:cubicBezTo>
                <a:cubicBezTo>
                  <a:pt x="3792" y="15573"/>
                  <a:pt x="3724" y="15762"/>
                  <a:pt x="3621" y="15900"/>
                </a:cubicBezTo>
                <a:cubicBezTo>
                  <a:pt x="3589" y="15943"/>
                  <a:pt x="3522" y="16030"/>
                  <a:pt x="3522" y="15999"/>
                </a:cubicBezTo>
                <a:cubicBezTo>
                  <a:pt x="3534" y="15917"/>
                  <a:pt x="3543" y="15901"/>
                  <a:pt x="3621" y="15925"/>
                </a:cubicBezTo>
                <a:cubicBezTo>
                  <a:pt x="3711" y="15953"/>
                  <a:pt x="3804" y="15967"/>
                  <a:pt x="3894" y="15925"/>
                </a:cubicBezTo>
                <a:cubicBezTo>
                  <a:pt x="3902" y="15917"/>
                  <a:pt x="3911" y="15908"/>
                  <a:pt x="3919" y="15900"/>
                </a:cubicBezTo>
              </a:path>
              <a:path w="621" h="1614">
                <a:moveTo>
                  <a:pt x="3845" y="14808"/>
                </a:moveTo>
                <a:cubicBezTo>
                  <a:pt x="4022" y="15004"/>
                  <a:pt x="4115" y="15155"/>
                  <a:pt x="4142" y="15429"/>
                </a:cubicBezTo>
                <a:cubicBezTo>
                  <a:pt x="4172" y="15730"/>
                  <a:pt x="4118" y="16060"/>
                  <a:pt x="3969" y="16321"/>
                </a:cubicBezTo>
                <a:cubicBezTo>
                  <a:pt x="3947" y="16360"/>
                  <a:pt x="3911" y="16400"/>
                  <a:pt x="3894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7120" y="408132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1385" y="11385"/>
                </a:moveTo>
                <a:cubicBezTo>
                  <a:pt x="11385" y="11514"/>
                  <a:pt x="11391" y="11636"/>
                  <a:pt x="11361" y="11757"/>
                </a:cubicBezTo>
                <a:cubicBezTo>
                  <a:pt x="11345" y="11680"/>
                  <a:pt x="11293" y="11557"/>
                  <a:pt x="11361" y="11485"/>
                </a:cubicBezTo>
                <a:cubicBezTo>
                  <a:pt x="11423" y="11419"/>
                  <a:pt x="11666" y="11407"/>
                  <a:pt x="11757" y="11385"/>
                </a:cubicBezTo>
                <a:cubicBezTo>
                  <a:pt x="11828" y="11367"/>
                  <a:pt x="11866" y="11336"/>
                  <a:pt x="11931" y="11336"/>
                </a:cubicBezTo>
                <a:cubicBezTo>
                  <a:pt x="11893" y="11565"/>
                  <a:pt x="11776" y="11783"/>
                  <a:pt x="11708" y="12005"/>
                </a:cubicBezTo>
                <a:cubicBezTo>
                  <a:pt x="11683" y="12086"/>
                  <a:pt x="11648" y="12211"/>
                  <a:pt x="11633" y="12303"/>
                </a:cubicBezTo>
              </a:path>
              <a:path w="1192" h="968">
                <a:moveTo>
                  <a:pt x="10765" y="11981"/>
                </a:moveTo>
                <a:cubicBezTo>
                  <a:pt x="10697" y="11981"/>
                  <a:pt x="10944" y="11959"/>
                  <a:pt x="10964" y="11956"/>
                </a:cubicBezTo>
                <a:cubicBezTo>
                  <a:pt x="11009" y="11950"/>
                  <a:pt x="11041" y="11931"/>
                  <a:pt x="1108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81320" y="5286240"/>
            <a:ext cx="527040" cy="374760"/>
          </a:xfrm>
          <a:custGeom>
            <a:avLst/>
            <a:gdLst/>
            <a:ahLst/>
            <a:rect l="l" t="t" r="r" b="b"/>
            <a:pathLst>
              <a:path w="1464" h="1043">
                <a:moveTo>
                  <a:pt x="11733" y="14932"/>
                </a:moveTo>
                <a:cubicBezTo>
                  <a:pt x="11679" y="14854"/>
                  <a:pt x="11455" y="14997"/>
                  <a:pt x="11385" y="15056"/>
                </a:cubicBezTo>
                <a:cubicBezTo>
                  <a:pt x="11369" y="15081"/>
                  <a:pt x="11352" y="15106"/>
                  <a:pt x="11336" y="15131"/>
                </a:cubicBezTo>
                <a:cubicBezTo>
                  <a:pt x="11482" y="15277"/>
                  <a:pt x="11875" y="15437"/>
                  <a:pt x="11733" y="15677"/>
                </a:cubicBezTo>
                <a:cubicBezTo>
                  <a:pt x="11700" y="15693"/>
                  <a:pt x="11666" y="15710"/>
                  <a:pt x="11633" y="15726"/>
                </a:cubicBezTo>
                <a:cubicBezTo>
                  <a:pt x="11452" y="15564"/>
                  <a:pt x="11676" y="15359"/>
                  <a:pt x="11757" y="15156"/>
                </a:cubicBezTo>
                <a:cubicBezTo>
                  <a:pt x="11804" y="15038"/>
                  <a:pt x="11879" y="14822"/>
                  <a:pt x="11757" y="15081"/>
                </a:cubicBezTo>
              </a:path>
              <a:path w="1464" h="1043">
                <a:moveTo>
                  <a:pt x="12105" y="15553"/>
                </a:moveTo>
                <a:cubicBezTo>
                  <a:pt x="12043" y="15587"/>
                  <a:pt x="12028" y="15573"/>
                  <a:pt x="12055" y="15627"/>
                </a:cubicBezTo>
                <a:cubicBezTo>
                  <a:pt x="12100" y="15608"/>
                  <a:pt x="12214" y="15503"/>
                  <a:pt x="12080" y="15553"/>
                </a:cubicBezTo>
                <a:cubicBezTo>
                  <a:pt x="12072" y="15561"/>
                  <a:pt x="12063" y="15569"/>
                  <a:pt x="12055" y="15577"/>
                </a:cubicBezTo>
              </a:path>
              <a:path w="1464" h="1043">
                <a:moveTo>
                  <a:pt x="12378" y="15007"/>
                </a:moveTo>
                <a:cubicBezTo>
                  <a:pt x="12528" y="14969"/>
                  <a:pt x="12568" y="14935"/>
                  <a:pt x="12700" y="15007"/>
                </a:cubicBezTo>
                <a:cubicBezTo>
                  <a:pt x="12650" y="15150"/>
                  <a:pt x="12608" y="15215"/>
                  <a:pt x="12502" y="15329"/>
                </a:cubicBezTo>
                <a:cubicBezTo>
                  <a:pt x="12629" y="15329"/>
                  <a:pt x="12766" y="15309"/>
                  <a:pt x="12799" y="15478"/>
                </a:cubicBezTo>
                <a:cubicBezTo>
                  <a:pt x="12836" y="15668"/>
                  <a:pt x="12636" y="15718"/>
                  <a:pt x="12502" y="15726"/>
                </a:cubicBezTo>
                <a:cubicBezTo>
                  <a:pt x="12494" y="15726"/>
                  <a:pt x="12485" y="15726"/>
                  <a:pt x="12477" y="15726"/>
                </a:cubicBezTo>
              </a:path>
              <a:path w="1464" h="1043">
                <a:moveTo>
                  <a:pt x="12254" y="14734"/>
                </a:moveTo>
                <a:cubicBezTo>
                  <a:pt x="12363" y="14720"/>
                  <a:pt x="12517" y="14673"/>
                  <a:pt x="12626" y="14709"/>
                </a:cubicBezTo>
                <a:cubicBezTo>
                  <a:pt x="12793" y="14765"/>
                  <a:pt x="12303" y="14782"/>
                  <a:pt x="12129" y="14808"/>
                </a:cubicBezTo>
                <a:cubicBezTo>
                  <a:pt x="12328" y="14752"/>
                  <a:pt x="12864" y="14625"/>
                  <a:pt x="12675" y="14709"/>
                </a:cubicBezTo>
                <a:cubicBezTo>
                  <a:pt x="12552" y="14740"/>
                  <a:pt x="12495" y="14752"/>
                  <a:pt x="12402" y="14759"/>
                </a:cubicBezTo>
                <a:cubicBezTo>
                  <a:pt x="12456" y="14859"/>
                  <a:pt x="12670" y="14595"/>
                  <a:pt x="12675" y="14709"/>
                </a:cubicBezTo>
                <a:cubicBezTo>
                  <a:pt x="12659" y="14717"/>
                  <a:pt x="12642" y="14726"/>
                  <a:pt x="12626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1960" y="3963960"/>
            <a:ext cx="1517760" cy="2795760"/>
          </a:xfrm>
          <a:custGeom>
            <a:avLst/>
            <a:gdLst/>
            <a:ahLst/>
            <a:rect l="l" t="t" r="r" b="b"/>
            <a:pathLst>
              <a:path w="4218" h="7765">
                <a:moveTo>
                  <a:pt x="16173" y="15180"/>
                </a:moveTo>
                <a:cubicBezTo>
                  <a:pt x="16255" y="15157"/>
                  <a:pt x="16335" y="15129"/>
                  <a:pt x="16421" y="15106"/>
                </a:cubicBezTo>
                <a:cubicBezTo>
                  <a:pt x="16619" y="15364"/>
                  <a:pt x="16533" y="15601"/>
                  <a:pt x="16222" y="15776"/>
                </a:cubicBezTo>
                <a:cubicBezTo>
                  <a:pt x="16049" y="15819"/>
                  <a:pt x="16009" y="15840"/>
                  <a:pt x="15900" y="15801"/>
                </a:cubicBezTo>
                <a:cubicBezTo>
                  <a:pt x="16004" y="15605"/>
                  <a:pt x="16172" y="15562"/>
                  <a:pt x="16396" y="15677"/>
                </a:cubicBezTo>
                <a:cubicBezTo>
                  <a:pt x="16551" y="15756"/>
                  <a:pt x="16440" y="15981"/>
                  <a:pt x="16545" y="15701"/>
                </a:cubicBezTo>
              </a:path>
              <a:path w="4218" h="7765">
                <a:moveTo>
                  <a:pt x="17165" y="15032"/>
                </a:moveTo>
                <a:cubicBezTo>
                  <a:pt x="17089" y="15019"/>
                  <a:pt x="17020" y="14986"/>
                  <a:pt x="16942" y="14982"/>
                </a:cubicBezTo>
                <a:cubicBezTo>
                  <a:pt x="16826" y="14976"/>
                  <a:pt x="16750" y="15160"/>
                  <a:pt x="16718" y="15255"/>
                </a:cubicBezTo>
                <a:cubicBezTo>
                  <a:pt x="16718" y="15271"/>
                  <a:pt x="16718" y="15288"/>
                  <a:pt x="16718" y="15304"/>
                </a:cubicBezTo>
                <a:cubicBezTo>
                  <a:pt x="16831" y="15286"/>
                  <a:pt x="16951" y="15217"/>
                  <a:pt x="17066" y="15280"/>
                </a:cubicBezTo>
                <a:cubicBezTo>
                  <a:pt x="17255" y="15384"/>
                  <a:pt x="17202" y="15627"/>
                  <a:pt x="17041" y="15726"/>
                </a:cubicBezTo>
                <a:cubicBezTo>
                  <a:pt x="16923" y="15798"/>
                  <a:pt x="16867" y="15783"/>
                  <a:pt x="16768" y="15726"/>
                </a:cubicBezTo>
              </a:path>
              <a:path w="4218" h="7765">
                <a:moveTo>
                  <a:pt x="15478" y="16049"/>
                </a:moveTo>
                <a:cubicBezTo>
                  <a:pt x="15521" y="15863"/>
                  <a:pt x="15528" y="15700"/>
                  <a:pt x="15528" y="15503"/>
                </a:cubicBezTo>
                <a:cubicBezTo>
                  <a:pt x="15528" y="15280"/>
                  <a:pt x="15528" y="15056"/>
                  <a:pt x="15528" y="14833"/>
                </a:cubicBezTo>
                <a:cubicBezTo>
                  <a:pt x="15955" y="14765"/>
                  <a:pt x="16386" y="14755"/>
                  <a:pt x="16818" y="14734"/>
                </a:cubicBezTo>
                <a:cubicBezTo>
                  <a:pt x="17159" y="14717"/>
                  <a:pt x="17564" y="14645"/>
                  <a:pt x="17909" y="14684"/>
                </a:cubicBezTo>
                <a:cubicBezTo>
                  <a:pt x="17901" y="14692"/>
                  <a:pt x="17892" y="14701"/>
                  <a:pt x="17884" y="14709"/>
                </a:cubicBezTo>
              </a:path>
              <a:path w="4218" h="7765">
                <a:moveTo>
                  <a:pt x="14560" y="15180"/>
                </a:moveTo>
                <a:cubicBezTo>
                  <a:pt x="14560" y="15200"/>
                  <a:pt x="14689" y="15102"/>
                  <a:pt x="14759" y="15081"/>
                </a:cubicBezTo>
                <a:cubicBezTo>
                  <a:pt x="14867" y="15059"/>
                  <a:pt x="14893" y="15046"/>
                  <a:pt x="14957" y="15081"/>
                </a:cubicBezTo>
                <a:cubicBezTo>
                  <a:pt x="14968" y="15329"/>
                  <a:pt x="14922" y="15409"/>
                  <a:pt x="14734" y="15577"/>
                </a:cubicBezTo>
                <a:cubicBezTo>
                  <a:pt x="14726" y="15585"/>
                  <a:pt x="14717" y="15594"/>
                  <a:pt x="14709" y="15602"/>
                </a:cubicBezTo>
                <a:cubicBezTo>
                  <a:pt x="14793" y="15491"/>
                  <a:pt x="14910" y="15594"/>
                  <a:pt x="15007" y="15652"/>
                </a:cubicBezTo>
                <a:cubicBezTo>
                  <a:pt x="14925" y="15815"/>
                  <a:pt x="14852" y="15880"/>
                  <a:pt x="14660" y="15900"/>
                </a:cubicBezTo>
                <a:cubicBezTo>
                  <a:pt x="14635" y="15900"/>
                  <a:pt x="14627" y="15900"/>
                  <a:pt x="14635" y="15875"/>
                </a:cubicBezTo>
              </a:path>
              <a:path w="4218" h="7765">
                <a:moveTo>
                  <a:pt x="17066" y="13841"/>
                </a:moveTo>
                <a:cubicBezTo>
                  <a:pt x="17083" y="13787"/>
                  <a:pt x="17116" y="13817"/>
                  <a:pt x="17041" y="13791"/>
                </a:cubicBezTo>
                <a:cubicBezTo>
                  <a:pt x="16793" y="13704"/>
                  <a:pt x="16704" y="13712"/>
                  <a:pt x="16495" y="13866"/>
                </a:cubicBezTo>
                <a:cubicBezTo>
                  <a:pt x="16600" y="14075"/>
                  <a:pt x="16880" y="14004"/>
                  <a:pt x="17041" y="14188"/>
                </a:cubicBezTo>
                <a:cubicBezTo>
                  <a:pt x="17049" y="14229"/>
                  <a:pt x="17058" y="14271"/>
                  <a:pt x="17066" y="14312"/>
                </a:cubicBezTo>
                <a:cubicBezTo>
                  <a:pt x="16871" y="14452"/>
                  <a:pt x="16716" y="14410"/>
                  <a:pt x="16793" y="14114"/>
                </a:cubicBezTo>
                <a:cubicBezTo>
                  <a:pt x="16822" y="14004"/>
                  <a:pt x="16957" y="13801"/>
                  <a:pt x="16966" y="13717"/>
                </a:cubicBezTo>
              </a:path>
              <a:path w="4218" h="7765">
                <a:moveTo>
                  <a:pt x="16148" y="16098"/>
                </a:moveTo>
                <a:cubicBezTo>
                  <a:pt x="16247" y="16098"/>
                  <a:pt x="16401" y="16063"/>
                  <a:pt x="16446" y="16197"/>
                </a:cubicBezTo>
                <a:cubicBezTo>
                  <a:pt x="16542" y="16485"/>
                  <a:pt x="16230" y="16697"/>
                  <a:pt x="15974" y="16669"/>
                </a:cubicBezTo>
                <a:cubicBezTo>
                  <a:pt x="15958" y="16652"/>
                  <a:pt x="15941" y="16636"/>
                  <a:pt x="15925" y="16619"/>
                </a:cubicBezTo>
                <a:cubicBezTo>
                  <a:pt x="16004" y="16482"/>
                  <a:pt x="16122" y="16395"/>
                  <a:pt x="16297" y="16470"/>
                </a:cubicBezTo>
                <a:cubicBezTo>
                  <a:pt x="16432" y="16528"/>
                  <a:pt x="16308" y="16642"/>
                  <a:pt x="16470" y="16495"/>
                </a:cubicBezTo>
              </a:path>
              <a:path w="4218" h="7765">
                <a:moveTo>
                  <a:pt x="16594" y="16148"/>
                </a:moveTo>
                <a:cubicBezTo>
                  <a:pt x="16594" y="16210"/>
                  <a:pt x="16602" y="16292"/>
                  <a:pt x="16669" y="16321"/>
                </a:cubicBezTo>
                <a:cubicBezTo>
                  <a:pt x="16845" y="16398"/>
                  <a:pt x="16877" y="16290"/>
                  <a:pt x="16966" y="16173"/>
                </a:cubicBezTo>
              </a:path>
              <a:path w="4218" h="7765">
                <a:moveTo>
                  <a:pt x="16892" y="15949"/>
                </a:moveTo>
                <a:cubicBezTo>
                  <a:pt x="16860" y="16132"/>
                  <a:pt x="16864" y="16344"/>
                  <a:pt x="16818" y="16520"/>
                </a:cubicBezTo>
                <a:cubicBezTo>
                  <a:pt x="16810" y="16528"/>
                  <a:pt x="16801" y="16537"/>
                  <a:pt x="16793" y="16545"/>
                </a:cubicBezTo>
              </a:path>
              <a:path w="4218" h="7765">
                <a:moveTo>
                  <a:pt x="15404" y="16421"/>
                </a:moveTo>
                <a:cubicBezTo>
                  <a:pt x="15554" y="16411"/>
                  <a:pt x="15700" y="16380"/>
                  <a:pt x="15850" y="16371"/>
                </a:cubicBezTo>
              </a:path>
              <a:path w="4218" h="7765">
                <a:moveTo>
                  <a:pt x="15230" y="16867"/>
                </a:moveTo>
                <a:cubicBezTo>
                  <a:pt x="15733" y="16827"/>
                  <a:pt x="16239" y="16785"/>
                  <a:pt x="16743" y="16768"/>
                </a:cubicBezTo>
                <a:cubicBezTo>
                  <a:pt x="16932" y="16762"/>
                  <a:pt x="17019" y="16777"/>
                  <a:pt x="17190" y="16793"/>
                </a:cubicBezTo>
              </a:path>
              <a:path w="4218" h="7765">
                <a:moveTo>
                  <a:pt x="16966" y="16966"/>
                </a:moveTo>
                <a:cubicBezTo>
                  <a:pt x="16966" y="17128"/>
                  <a:pt x="16973" y="17277"/>
                  <a:pt x="16966" y="17438"/>
                </a:cubicBezTo>
                <a:cubicBezTo>
                  <a:pt x="16966" y="17521"/>
                  <a:pt x="16966" y="17537"/>
                  <a:pt x="16966" y="17587"/>
                </a:cubicBezTo>
              </a:path>
              <a:path w="4218" h="7765">
                <a:moveTo>
                  <a:pt x="16570" y="18182"/>
                </a:moveTo>
                <a:cubicBezTo>
                  <a:pt x="16993" y="18140"/>
                  <a:pt x="17413" y="18089"/>
                  <a:pt x="17835" y="18033"/>
                </a:cubicBezTo>
                <a:cubicBezTo>
                  <a:pt x="18136" y="17993"/>
                  <a:pt x="18464" y="17954"/>
                  <a:pt x="18752" y="17909"/>
                </a:cubicBezTo>
                <a:cubicBezTo>
                  <a:pt x="18760" y="17909"/>
                  <a:pt x="18769" y="17909"/>
                  <a:pt x="18777" y="17909"/>
                </a:cubicBezTo>
              </a:path>
              <a:path w="4218" h="7765">
                <a:moveTo>
                  <a:pt x="17959" y="18405"/>
                </a:moveTo>
                <a:cubicBezTo>
                  <a:pt x="17959" y="18338"/>
                  <a:pt x="17940" y="18487"/>
                  <a:pt x="17934" y="18554"/>
                </a:cubicBezTo>
                <a:cubicBezTo>
                  <a:pt x="17928" y="18627"/>
                  <a:pt x="17934" y="18704"/>
                  <a:pt x="17934" y="18777"/>
                </a:cubicBezTo>
              </a:path>
              <a:path w="4218" h="7765">
                <a:moveTo>
                  <a:pt x="17735" y="13295"/>
                </a:moveTo>
                <a:cubicBezTo>
                  <a:pt x="17854" y="13295"/>
                  <a:pt x="17965" y="13278"/>
                  <a:pt x="18083" y="13271"/>
                </a:cubicBezTo>
                <a:cubicBezTo>
                  <a:pt x="18124" y="13271"/>
                  <a:pt x="18166" y="13271"/>
                  <a:pt x="18207" y="13271"/>
                </a:cubicBezTo>
                <a:cubicBezTo>
                  <a:pt x="18317" y="13271"/>
                  <a:pt x="18091" y="13302"/>
                  <a:pt x="17983" y="13320"/>
                </a:cubicBezTo>
                <a:cubicBezTo>
                  <a:pt x="17876" y="13338"/>
                  <a:pt x="17868" y="13346"/>
                  <a:pt x="17810" y="13345"/>
                </a:cubicBezTo>
                <a:cubicBezTo>
                  <a:pt x="17975" y="13293"/>
                  <a:pt x="18137" y="13242"/>
                  <a:pt x="18306" y="13221"/>
                </a:cubicBezTo>
              </a:path>
              <a:path w="4218" h="7765">
                <a:moveTo>
                  <a:pt x="16073" y="11187"/>
                </a:moveTo>
                <a:cubicBezTo>
                  <a:pt x="16095" y="11100"/>
                  <a:pt x="16235" y="11025"/>
                  <a:pt x="16321" y="11013"/>
                </a:cubicBezTo>
                <a:cubicBezTo>
                  <a:pt x="16338" y="11021"/>
                  <a:pt x="16354" y="11030"/>
                  <a:pt x="16371" y="11038"/>
                </a:cubicBezTo>
                <a:cubicBezTo>
                  <a:pt x="16353" y="11189"/>
                  <a:pt x="16325" y="11266"/>
                  <a:pt x="16222" y="11385"/>
                </a:cubicBezTo>
                <a:cubicBezTo>
                  <a:pt x="16320" y="11272"/>
                  <a:pt x="16437" y="11341"/>
                  <a:pt x="16421" y="11509"/>
                </a:cubicBezTo>
                <a:cubicBezTo>
                  <a:pt x="16407" y="11656"/>
                  <a:pt x="16248" y="11802"/>
                  <a:pt x="16098" y="11733"/>
                </a:cubicBezTo>
                <a:cubicBezTo>
                  <a:pt x="16098" y="11725"/>
                  <a:pt x="16098" y="11716"/>
                  <a:pt x="16098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00920" y="4241880"/>
            <a:ext cx="18720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19794" y="11807"/>
                </a:moveTo>
                <a:cubicBezTo>
                  <a:pt x="19703" y="11776"/>
                  <a:pt x="19636" y="11767"/>
                  <a:pt x="19571" y="11857"/>
                </a:cubicBezTo>
                <a:cubicBezTo>
                  <a:pt x="19466" y="12003"/>
                  <a:pt x="19411" y="12152"/>
                  <a:pt x="19472" y="12328"/>
                </a:cubicBezTo>
                <a:cubicBezTo>
                  <a:pt x="19506" y="12425"/>
                  <a:pt x="19629" y="12542"/>
                  <a:pt x="19745" y="12477"/>
                </a:cubicBezTo>
                <a:cubicBezTo>
                  <a:pt x="19884" y="12399"/>
                  <a:pt x="19908" y="12254"/>
                  <a:pt x="19943" y="12129"/>
                </a:cubicBezTo>
                <a:cubicBezTo>
                  <a:pt x="19974" y="12020"/>
                  <a:pt x="19947" y="12029"/>
                  <a:pt x="19893" y="11931"/>
                </a:cubicBezTo>
                <a:cubicBezTo>
                  <a:pt x="19859" y="11869"/>
                  <a:pt x="19837" y="11857"/>
                  <a:pt x="1976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32680" y="4884840"/>
            <a:ext cx="331560" cy="1643040"/>
          </a:xfrm>
          <a:custGeom>
            <a:avLst/>
            <a:gdLst/>
            <a:ahLst/>
            <a:rect l="l" t="t" r="r" b="b"/>
            <a:pathLst>
              <a:path w="918" h="4565">
                <a:moveTo>
                  <a:pt x="17462" y="15627"/>
                </a:moveTo>
                <a:cubicBezTo>
                  <a:pt x="17493" y="15502"/>
                  <a:pt x="17403" y="15661"/>
                  <a:pt x="17388" y="15701"/>
                </a:cubicBezTo>
                <a:cubicBezTo>
                  <a:pt x="17388" y="15751"/>
                  <a:pt x="17388" y="15768"/>
                  <a:pt x="17438" y="15751"/>
                </a:cubicBezTo>
                <a:cubicBezTo>
                  <a:pt x="17450" y="15727"/>
                  <a:pt x="17502" y="15474"/>
                  <a:pt x="17413" y="15602"/>
                </a:cubicBezTo>
                <a:cubicBezTo>
                  <a:pt x="17362" y="15675"/>
                  <a:pt x="17396" y="15745"/>
                  <a:pt x="17413" y="15627"/>
                </a:cubicBezTo>
              </a:path>
              <a:path w="918" h="4565">
                <a:moveTo>
                  <a:pt x="17462" y="14312"/>
                </a:moveTo>
                <a:cubicBezTo>
                  <a:pt x="17362" y="14312"/>
                  <a:pt x="17358" y="14345"/>
                  <a:pt x="17338" y="14436"/>
                </a:cubicBezTo>
                <a:cubicBezTo>
                  <a:pt x="17432" y="14506"/>
                  <a:pt x="17472" y="14309"/>
                  <a:pt x="17438" y="14288"/>
                </a:cubicBezTo>
                <a:cubicBezTo>
                  <a:pt x="17392" y="14259"/>
                  <a:pt x="17283" y="14380"/>
                  <a:pt x="17338" y="14412"/>
                </a:cubicBezTo>
                <a:cubicBezTo>
                  <a:pt x="17346" y="14412"/>
                  <a:pt x="17355" y="14412"/>
                  <a:pt x="17363" y="14412"/>
                </a:cubicBezTo>
              </a:path>
              <a:path w="918" h="4565">
                <a:moveTo>
                  <a:pt x="17934" y="15032"/>
                </a:moveTo>
                <a:cubicBezTo>
                  <a:pt x="17813" y="14959"/>
                  <a:pt x="17724" y="15180"/>
                  <a:pt x="17711" y="15280"/>
                </a:cubicBezTo>
                <a:cubicBezTo>
                  <a:pt x="17734" y="15420"/>
                  <a:pt x="17736" y="15463"/>
                  <a:pt x="17810" y="15528"/>
                </a:cubicBezTo>
                <a:cubicBezTo>
                  <a:pt x="18053" y="15516"/>
                  <a:pt x="18194" y="15365"/>
                  <a:pt x="18107" y="15081"/>
                </a:cubicBezTo>
                <a:cubicBezTo>
                  <a:pt x="18049" y="14890"/>
                  <a:pt x="17961" y="15007"/>
                  <a:pt x="17909" y="15081"/>
                </a:cubicBezTo>
              </a:path>
              <a:path w="918" h="4565">
                <a:moveTo>
                  <a:pt x="17959" y="15577"/>
                </a:moveTo>
                <a:cubicBezTo>
                  <a:pt x="17959" y="15706"/>
                  <a:pt x="17963" y="15820"/>
                  <a:pt x="17959" y="15949"/>
                </a:cubicBezTo>
                <a:cubicBezTo>
                  <a:pt x="17952" y="16182"/>
                  <a:pt x="17934" y="16411"/>
                  <a:pt x="17934" y="16644"/>
                </a:cubicBezTo>
                <a:cubicBezTo>
                  <a:pt x="17934" y="16661"/>
                  <a:pt x="17934" y="16677"/>
                  <a:pt x="17934" y="16694"/>
                </a:cubicBezTo>
              </a:path>
              <a:path w="918" h="4565">
                <a:moveTo>
                  <a:pt x="17686" y="16594"/>
                </a:moveTo>
                <a:cubicBezTo>
                  <a:pt x="17703" y="16647"/>
                  <a:pt x="17758" y="16790"/>
                  <a:pt x="17835" y="16793"/>
                </a:cubicBezTo>
                <a:cubicBezTo>
                  <a:pt x="17990" y="16800"/>
                  <a:pt x="18077" y="16489"/>
                  <a:pt x="18157" y="16396"/>
                </a:cubicBezTo>
                <a:cubicBezTo>
                  <a:pt x="18165" y="16396"/>
                  <a:pt x="18174" y="16396"/>
                  <a:pt x="18182" y="16396"/>
                </a:cubicBezTo>
              </a:path>
              <a:path w="918" h="4565">
                <a:moveTo>
                  <a:pt x="17884" y="16991"/>
                </a:moveTo>
                <a:cubicBezTo>
                  <a:pt x="17786" y="17024"/>
                  <a:pt x="17711" y="17119"/>
                  <a:pt x="17661" y="17214"/>
                </a:cubicBezTo>
                <a:cubicBezTo>
                  <a:pt x="17604" y="17323"/>
                  <a:pt x="17611" y="17396"/>
                  <a:pt x="17611" y="17512"/>
                </a:cubicBezTo>
                <a:cubicBezTo>
                  <a:pt x="17777" y="17558"/>
                  <a:pt x="17879" y="17536"/>
                  <a:pt x="17983" y="17388"/>
                </a:cubicBezTo>
                <a:cubicBezTo>
                  <a:pt x="18034" y="17315"/>
                  <a:pt x="18107" y="17139"/>
                  <a:pt x="18008" y="17066"/>
                </a:cubicBezTo>
                <a:cubicBezTo>
                  <a:pt x="17977" y="17043"/>
                  <a:pt x="17898" y="17024"/>
                  <a:pt x="17859" y="17016"/>
                </a:cubicBezTo>
              </a:path>
              <a:path w="918" h="4565">
                <a:moveTo>
                  <a:pt x="17859" y="13692"/>
                </a:moveTo>
                <a:cubicBezTo>
                  <a:pt x="17911" y="13650"/>
                  <a:pt x="18184" y="13426"/>
                  <a:pt x="18132" y="13667"/>
                </a:cubicBezTo>
                <a:cubicBezTo>
                  <a:pt x="18084" y="13765"/>
                  <a:pt x="18069" y="13797"/>
                  <a:pt x="18008" y="13841"/>
                </a:cubicBezTo>
                <a:cubicBezTo>
                  <a:pt x="18000" y="13849"/>
                  <a:pt x="17991" y="13858"/>
                  <a:pt x="17983" y="13866"/>
                </a:cubicBezTo>
                <a:cubicBezTo>
                  <a:pt x="18011" y="13756"/>
                  <a:pt x="18157" y="13822"/>
                  <a:pt x="18207" y="13891"/>
                </a:cubicBezTo>
                <a:cubicBezTo>
                  <a:pt x="18354" y="14095"/>
                  <a:pt x="18006" y="14139"/>
                  <a:pt x="17909" y="14139"/>
                </a:cubicBezTo>
                <a:cubicBezTo>
                  <a:pt x="17901" y="14139"/>
                  <a:pt x="17892" y="14139"/>
                  <a:pt x="17884" y="14139"/>
                </a:cubicBezTo>
              </a:path>
              <a:path w="918" h="4565">
                <a:moveTo>
                  <a:pt x="18008" y="17884"/>
                </a:moveTo>
                <a:cubicBezTo>
                  <a:pt x="17975" y="17784"/>
                  <a:pt x="17895" y="17718"/>
                  <a:pt x="17785" y="17785"/>
                </a:cubicBezTo>
                <a:cubicBezTo>
                  <a:pt x="17666" y="17857"/>
                  <a:pt x="17692" y="17920"/>
                  <a:pt x="17735" y="18008"/>
                </a:cubicBezTo>
                <a:cubicBezTo>
                  <a:pt x="17845" y="17957"/>
                  <a:pt x="17950" y="17901"/>
                  <a:pt x="18008" y="17785"/>
                </a:cubicBezTo>
                <a:cubicBezTo>
                  <a:pt x="18008" y="17777"/>
                  <a:pt x="18008" y="17768"/>
                  <a:pt x="18008" y="17760"/>
                </a:cubicBezTo>
                <a:cubicBezTo>
                  <a:pt x="18008" y="17878"/>
                  <a:pt x="18027" y="17990"/>
                  <a:pt x="18033" y="18107"/>
                </a:cubicBezTo>
                <a:cubicBezTo>
                  <a:pt x="18033" y="18115"/>
                  <a:pt x="18033" y="18124"/>
                  <a:pt x="18033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8880" y="3125880"/>
            <a:ext cx="625320" cy="3321000"/>
          </a:xfrm>
          <a:custGeom>
            <a:avLst/>
            <a:gdLst/>
            <a:ahLst/>
            <a:rect l="l" t="t" r="r" b="b"/>
            <a:pathLst>
              <a:path w="1737" h="9228">
                <a:moveTo>
                  <a:pt x="16446" y="17909"/>
                </a:moveTo>
                <a:cubicBezTo>
                  <a:pt x="16529" y="17825"/>
                  <a:pt x="16714" y="17840"/>
                  <a:pt x="16842" y="17835"/>
                </a:cubicBezTo>
              </a:path>
              <a:path w="1737" h="9228">
                <a:moveTo>
                  <a:pt x="15106" y="8682"/>
                </a:moveTo>
                <a:cubicBezTo>
                  <a:pt x="15106" y="8690"/>
                  <a:pt x="15106" y="8698"/>
                  <a:pt x="15106" y="8706"/>
                </a:cubicBezTo>
              </a:path>
              <a:path w="1737" h="9228">
                <a:moveTo>
                  <a:pt x="16098" y="10740"/>
                </a:moveTo>
                <a:cubicBezTo>
                  <a:pt x="16132" y="10747"/>
                  <a:pt x="16299" y="10805"/>
                  <a:pt x="16371" y="10864"/>
                </a:cubicBezTo>
                <a:cubicBezTo>
                  <a:pt x="16566" y="11023"/>
                  <a:pt x="16666" y="11245"/>
                  <a:pt x="16718" y="11485"/>
                </a:cubicBezTo>
                <a:cubicBezTo>
                  <a:pt x="16768" y="11715"/>
                  <a:pt x="16701" y="11894"/>
                  <a:pt x="16619" y="12105"/>
                </a:cubicBezTo>
                <a:cubicBezTo>
                  <a:pt x="16579" y="12209"/>
                  <a:pt x="16546" y="12238"/>
                  <a:pt x="1649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0080" y="4840200"/>
            <a:ext cx="4349880" cy="169920"/>
          </a:xfrm>
          <a:custGeom>
            <a:avLst/>
            <a:gdLst/>
            <a:ahLst/>
            <a:rect l="l" t="t" r="r" b="b"/>
            <a:pathLst>
              <a:path w="12081" h="472">
                <a:moveTo>
                  <a:pt x="2778" y="13469"/>
                </a:moveTo>
                <a:cubicBezTo>
                  <a:pt x="2785" y="13522"/>
                  <a:pt x="2794" y="13564"/>
                  <a:pt x="2803" y="13618"/>
                </a:cubicBezTo>
                <a:cubicBezTo>
                  <a:pt x="2911" y="13591"/>
                  <a:pt x="3121" y="13477"/>
                  <a:pt x="3249" y="13469"/>
                </a:cubicBezTo>
                <a:cubicBezTo>
                  <a:pt x="3405" y="13459"/>
                  <a:pt x="3445" y="13510"/>
                  <a:pt x="3597" y="13543"/>
                </a:cubicBezTo>
                <a:cubicBezTo>
                  <a:pt x="3797" y="13586"/>
                  <a:pt x="3934" y="13541"/>
                  <a:pt x="4142" y="13543"/>
                </a:cubicBezTo>
                <a:cubicBezTo>
                  <a:pt x="4209" y="13544"/>
                  <a:pt x="4304" y="13570"/>
                  <a:pt x="4366" y="13568"/>
                </a:cubicBezTo>
                <a:cubicBezTo>
                  <a:pt x="4536" y="13561"/>
                  <a:pt x="4713" y="13500"/>
                  <a:pt x="4887" y="13494"/>
                </a:cubicBezTo>
                <a:cubicBezTo>
                  <a:pt x="5065" y="13488"/>
                  <a:pt x="5172" y="13576"/>
                  <a:pt x="5333" y="13593"/>
                </a:cubicBezTo>
                <a:cubicBezTo>
                  <a:pt x="5824" y="13646"/>
                  <a:pt x="6379" y="13672"/>
                  <a:pt x="6871" y="13667"/>
                </a:cubicBezTo>
                <a:cubicBezTo>
                  <a:pt x="7012" y="13666"/>
                  <a:pt x="7176" y="13635"/>
                  <a:pt x="7317" y="13618"/>
                </a:cubicBezTo>
                <a:cubicBezTo>
                  <a:pt x="7523" y="13593"/>
                  <a:pt x="7730" y="13561"/>
                  <a:pt x="7938" y="13543"/>
                </a:cubicBezTo>
                <a:cubicBezTo>
                  <a:pt x="8177" y="13522"/>
                  <a:pt x="8417" y="13516"/>
                  <a:pt x="8657" y="13494"/>
                </a:cubicBezTo>
                <a:cubicBezTo>
                  <a:pt x="8916" y="13470"/>
                  <a:pt x="9192" y="13438"/>
                  <a:pt x="9451" y="13444"/>
                </a:cubicBezTo>
                <a:cubicBezTo>
                  <a:pt x="9674" y="13449"/>
                  <a:pt x="9898" y="13497"/>
                  <a:pt x="10120" y="13519"/>
                </a:cubicBezTo>
                <a:cubicBezTo>
                  <a:pt x="10444" y="13551"/>
                  <a:pt x="10766" y="13571"/>
                  <a:pt x="11088" y="13618"/>
                </a:cubicBezTo>
                <a:cubicBezTo>
                  <a:pt x="11395" y="13663"/>
                  <a:pt x="11698" y="13721"/>
                  <a:pt x="12005" y="13767"/>
                </a:cubicBezTo>
                <a:cubicBezTo>
                  <a:pt x="12310" y="13812"/>
                  <a:pt x="12617" y="13845"/>
                  <a:pt x="12923" y="13866"/>
                </a:cubicBezTo>
                <a:cubicBezTo>
                  <a:pt x="13304" y="13893"/>
                  <a:pt x="13681" y="13915"/>
                  <a:pt x="14064" y="13915"/>
                </a:cubicBezTo>
                <a:cubicBezTo>
                  <a:pt x="14323" y="13915"/>
                  <a:pt x="14578" y="13907"/>
                  <a:pt x="14833" y="13891"/>
                </a:cubicBezTo>
                <a:cubicBezTo>
                  <a:pt x="14841" y="13891"/>
                  <a:pt x="14850" y="13891"/>
                  <a:pt x="14858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25360" y="651816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125" y="18107"/>
                </a:moveTo>
                <a:cubicBezTo>
                  <a:pt x="3125" y="18115"/>
                  <a:pt x="3125" y="18124"/>
                  <a:pt x="3125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43000" y="2971800"/>
          <a:ext cx="70344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703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19320" y="4572000"/>
          <a:ext cx="766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572000"/>
                    <a:ext cx="766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652840" y="1589040"/>
            <a:ext cx="892080" cy="679320"/>
          </a:xfrm>
          <a:custGeom>
            <a:avLst/>
            <a:gdLst/>
            <a:ahLst/>
            <a:rect l="l" t="t" r="r" b="b"/>
            <a:pathLst>
              <a:path w="2481" h="1886">
                <a:moveTo>
                  <a:pt x="7367" y="5110"/>
                </a:moveTo>
                <a:cubicBezTo>
                  <a:pt x="7508" y="5110"/>
                  <a:pt x="7648" y="5110"/>
                  <a:pt x="7789" y="5110"/>
                </a:cubicBezTo>
              </a:path>
              <a:path w="2481" h="1886">
                <a:moveTo>
                  <a:pt x="7466" y="5333"/>
                </a:moveTo>
                <a:cubicBezTo>
                  <a:pt x="7569" y="5309"/>
                  <a:pt x="7657" y="5308"/>
                  <a:pt x="7764" y="5308"/>
                </a:cubicBezTo>
                <a:cubicBezTo>
                  <a:pt x="7780" y="5308"/>
                  <a:pt x="7797" y="5308"/>
                  <a:pt x="7813" y="5308"/>
                </a:cubicBezTo>
              </a:path>
              <a:path w="2481" h="1886">
                <a:moveTo>
                  <a:pt x="8830" y="4812"/>
                </a:moveTo>
                <a:cubicBezTo>
                  <a:pt x="8797" y="4946"/>
                  <a:pt x="8734" y="5079"/>
                  <a:pt x="8682" y="5209"/>
                </a:cubicBezTo>
                <a:cubicBezTo>
                  <a:pt x="8636" y="5324"/>
                  <a:pt x="8606" y="5417"/>
                  <a:pt x="8657" y="5531"/>
                </a:cubicBezTo>
                <a:cubicBezTo>
                  <a:pt x="8705" y="5638"/>
                  <a:pt x="8801" y="5649"/>
                  <a:pt x="8905" y="5655"/>
                </a:cubicBezTo>
                <a:cubicBezTo>
                  <a:pt x="8959" y="5658"/>
                  <a:pt x="9016" y="5615"/>
                  <a:pt x="9054" y="5581"/>
                </a:cubicBezTo>
                <a:cubicBezTo>
                  <a:pt x="9090" y="5549"/>
                  <a:pt x="9123" y="5483"/>
                  <a:pt x="9103" y="5432"/>
                </a:cubicBezTo>
                <a:cubicBezTo>
                  <a:pt x="9079" y="5371"/>
                  <a:pt x="8985" y="5347"/>
                  <a:pt x="8930" y="5358"/>
                </a:cubicBezTo>
                <a:cubicBezTo>
                  <a:pt x="8913" y="5366"/>
                  <a:pt x="8897" y="5375"/>
                  <a:pt x="8880" y="5383"/>
                </a:cubicBezTo>
                <a:cubicBezTo>
                  <a:pt x="8880" y="5477"/>
                  <a:pt x="8885" y="5544"/>
                  <a:pt x="8905" y="5631"/>
                </a:cubicBezTo>
                <a:cubicBezTo>
                  <a:pt x="8905" y="5659"/>
                  <a:pt x="8908" y="5669"/>
                  <a:pt x="8930" y="5680"/>
                </a:cubicBezTo>
              </a:path>
              <a:path w="2481" h="1886">
                <a:moveTo>
                  <a:pt x="8260" y="6077"/>
                </a:moveTo>
                <a:cubicBezTo>
                  <a:pt x="8330" y="6136"/>
                  <a:pt x="8426" y="6217"/>
                  <a:pt x="8533" y="6251"/>
                </a:cubicBezTo>
                <a:cubicBezTo>
                  <a:pt x="8690" y="6301"/>
                  <a:pt x="8890" y="6320"/>
                  <a:pt x="9054" y="6300"/>
                </a:cubicBezTo>
                <a:cubicBezTo>
                  <a:pt x="9213" y="6281"/>
                  <a:pt x="9403" y="6177"/>
                  <a:pt x="9525" y="6077"/>
                </a:cubicBezTo>
                <a:cubicBezTo>
                  <a:pt x="9711" y="5924"/>
                  <a:pt x="9822" y="5745"/>
                  <a:pt x="9847" y="5507"/>
                </a:cubicBezTo>
                <a:cubicBezTo>
                  <a:pt x="9865" y="5331"/>
                  <a:pt x="9810" y="5171"/>
                  <a:pt x="9748" y="5011"/>
                </a:cubicBezTo>
                <a:cubicBezTo>
                  <a:pt x="9685" y="4848"/>
                  <a:pt x="9622" y="4760"/>
                  <a:pt x="9500" y="4638"/>
                </a:cubicBezTo>
                <a:cubicBezTo>
                  <a:pt x="9370" y="4508"/>
                  <a:pt x="9223" y="4411"/>
                  <a:pt x="9029" y="4415"/>
                </a:cubicBezTo>
                <a:cubicBezTo>
                  <a:pt x="8821" y="4419"/>
                  <a:pt x="8615" y="4476"/>
                  <a:pt x="8434" y="4564"/>
                </a:cubicBezTo>
                <a:cubicBezTo>
                  <a:pt x="8226" y="4665"/>
                  <a:pt x="8086" y="4818"/>
                  <a:pt x="7962" y="5011"/>
                </a:cubicBezTo>
                <a:cubicBezTo>
                  <a:pt x="7857" y="5174"/>
                  <a:pt x="7816" y="5313"/>
                  <a:pt x="7838" y="5507"/>
                </a:cubicBezTo>
                <a:cubicBezTo>
                  <a:pt x="7853" y="5644"/>
                  <a:pt x="7879" y="5816"/>
                  <a:pt x="7962" y="5928"/>
                </a:cubicBezTo>
                <a:cubicBezTo>
                  <a:pt x="8019" y="6006"/>
                  <a:pt x="8085" y="6069"/>
                  <a:pt x="8161" y="6127"/>
                </a:cubicBezTo>
                <a:cubicBezTo>
                  <a:pt x="8204" y="6149"/>
                  <a:pt x="8215" y="6153"/>
                  <a:pt x="8235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384720"/>
            <a:ext cx="117360" cy="1332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5953" y="9426"/>
                </a:moveTo>
                <a:cubicBezTo>
                  <a:pt x="5974" y="9488"/>
                  <a:pt x="6047" y="9431"/>
                  <a:pt x="6102" y="9426"/>
                </a:cubicBezTo>
                <a:cubicBezTo>
                  <a:pt x="6187" y="9426"/>
                  <a:pt x="6207" y="9432"/>
                  <a:pt x="6251" y="9401"/>
                </a:cubicBezTo>
              </a:path>
              <a:path w="324" h="373">
                <a:moveTo>
                  <a:pt x="5928" y="9773"/>
                </a:moveTo>
                <a:cubicBezTo>
                  <a:pt x="6023" y="9759"/>
                  <a:pt x="6110" y="9723"/>
                  <a:pt x="6201" y="9699"/>
                </a:cubicBezTo>
                <a:cubicBezTo>
                  <a:pt x="6226" y="9699"/>
                  <a:pt x="6234" y="9699"/>
                  <a:pt x="6251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89120" y="3044880"/>
            <a:ext cx="669960" cy="642960"/>
          </a:xfrm>
          <a:custGeom>
            <a:avLst/>
            <a:gdLst/>
            <a:ahLst/>
            <a:rect l="l" t="t" r="r" b="b"/>
            <a:pathLst>
              <a:path w="1862" h="1787">
                <a:moveTo>
                  <a:pt x="8235" y="8830"/>
                </a:moveTo>
                <a:cubicBezTo>
                  <a:pt x="8133" y="8830"/>
                  <a:pt x="8013" y="8842"/>
                  <a:pt x="7913" y="8855"/>
                </a:cubicBezTo>
                <a:cubicBezTo>
                  <a:pt x="7835" y="8865"/>
                  <a:pt x="7805" y="8880"/>
                  <a:pt x="7739" y="8880"/>
                </a:cubicBezTo>
                <a:cubicBezTo>
                  <a:pt x="7766" y="8968"/>
                  <a:pt x="7805" y="9062"/>
                  <a:pt x="7813" y="9153"/>
                </a:cubicBezTo>
                <a:cubicBezTo>
                  <a:pt x="7813" y="9161"/>
                  <a:pt x="7813" y="9170"/>
                  <a:pt x="7813" y="9178"/>
                </a:cubicBezTo>
                <a:cubicBezTo>
                  <a:pt x="7895" y="9145"/>
                  <a:pt x="7938" y="9052"/>
                  <a:pt x="8037" y="9029"/>
                </a:cubicBezTo>
                <a:cubicBezTo>
                  <a:pt x="8196" y="8991"/>
                  <a:pt x="8347" y="9137"/>
                  <a:pt x="8384" y="9277"/>
                </a:cubicBezTo>
                <a:cubicBezTo>
                  <a:pt x="8428" y="9444"/>
                  <a:pt x="8266" y="9487"/>
                  <a:pt x="8136" y="9500"/>
                </a:cubicBezTo>
                <a:cubicBezTo>
                  <a:pt x="8060" y="9508"/>
                  <a:pt x="7929" y="9506"/>
                  <a:pt x="7888" y="9475"/>
                </a:cubicBezTo>
              </a:path>
              <a:path w="1862" h="1787">
                <a:moveTo>
                  <a:pt x="7392" y="9922"/>
                </a:moveTo>
                <a:cubicBezTo>
                  <a:pt x="7438" y="9980"/>
                  <a:pt x="7497" y="10044"/>
                  <a:pt x="7565" y="10096"/>
                </a:cubicBezTo>
                <a:cubicBezTo>
                  <a:pt x="7687" y="10189"/>
                  <a:pt x="7884" y="10246"/>
                  <a:pt x="8037" y="10244"/>
                </a:cubicBezTo>
                <a:cubicBezTo>
                  <a:pt x="8229" y="10241"/>
                  <a:pt x="8463" y="10194"/>
                  <a:pt x="8632" y="10096"/>
                </a:cubicBezTo>
                <a:cubicBezTo>
                  <a:pt x="8769" y="10017"/>
                  <a:pt x="8904" y="9888"/>
                  <a:pt x="8979" y="9748"/>
                </a:cubicBezTo>
                <a:cubicBezTo>
                  <a:pt x="9072" y="9576"/>
                  <a:pt x="9065" y="9388"/>
                  <a:pt x="9029" y="9203"/>
                </a:cubicBezTo>
                <a:cubicBezTo>
                  <a:pt x="9006" y="9086"/>
                  <a:pt x="8968" y="8980"/>
                  <a:pt x="8905" y="8880"/>
                </a:cubicBezTo>
                <a:cubicBezTo>
                  <a:pt x="8838" y="8774"/>
                  <a:pt x="8771" y="8668"/>
                  <a:pt x="8657" y="8607"/>
                </a:cubicBezTo>
                <a:cubicBezTo>
                  <a:pt x="8523" y="8535"/>
                  <a:pt x="8339" y="8471"/>
                  <a:pt x="8186" y="8458"/>
                </a:cubicBezTo>
                <a:cubicBezTo>
                  <a:pt x="8003" y="8443"/>
                  <a:pt x="7781" y="8479"/>
                  <a:pt x="7615" y="8558"/>
                </a:cubicBezTo>
                <a:cubicBezTo>
                  <a:pt x="7470" y="8627"/>
                  <a:pt x="7326" y="8741"/>
                  <a:pt x="7243" y="8880"/>
                </a:cubicBezTo>
                <a:cubicBezTo>
                  <a:pt x="7175" y="8994"/>
                  <a:pt x="7193" y="9099"/>
                  <a:pt x="7193" y="9227"/>
                </a:cubicBezTo>
                <a:cubicBezTo>
                  <a:pt x="7193" y="9345"/>
                  <a:pt x="7239" y="9461"/>
                  <a:pt x="7268" y="9575"/>
                </a:cubicBezTo>
                <a:cubicBezTo>
                  <a:pt x="7295" y="9682"/>
                  <a:pt x="7330" y="9785"/>
                  <a:pt x="7392" y="9872"/>
                </a:cubicBezTo>
                <a:cubicBezTo>
                  <a:pt x="7441" y="9941"/>
                  <a:pt x="7500" y="9996"/>
                  <a:pt x="7541" y="10071"/>
                </a:cubicBezTo>
                <a:cubicBezTo>
                  <a:pt x="7557" y="10101"/>
                  <a:pt x="7573" y="10115"/>
                  <a:pt x="7590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5000" y="4473720"/>
            <a:ext cx="1438200" cy="1019160"/>
          </a:xfrm>
          <a:custGeom>
            <a:avLst/>
            <a:gdLst/>
            <a:ahLst/>
            <a:rect l="l" t="t" r="r" b="b"/>
            <a:pathLst>
              <a:path w="3994" h="2829">
                <a:moveTo>
                  <a:pt x="6127" y="13791"/>
                </a:moveTo>
                <a:cubicBezTo>
                  <a:pt x="6206" y="13791"/>
                  <a:pt x="6271" y="13778"/>
                  <a:pt x="6350" y="13767"/>
                </a:cubicBezTo>
                <a:cubicBezTo>
                  <a:pt x="6375" y="13767"/>
                  <a:pt x="6383" y="13767"/>
                  <a:pt x="6400" y="13767"/>
                </a:cubicBezTo>
              </a:path>
              <a:path w="3994" h="2829">
                <a:moveTo>
                  <a:pt x="6300" y="14064"/>
                </a:moveTo>
                <a:cubicBezTo>
                  <a:pt x="6369" y="14056"/>
                  <a:pt x="6429" y="14039"/>
                  <a:pt x="6499" y="14039"/>
                </a:cubicBezTo>
                <a:cubicBezTo>
                  <a:pt x="6507" y="14039"/>
                  <a:pt x="6516" y="14039"/>
                  <a:pt x="6524" y="14039"/>
                </a:cubicBezTo>
              </a:path>
              <a:path w="3994" h="2829">
                <a:moveTo>
                  <a:pt x="8359" y="13469"/>
                </a:moveTo>
                <a:cubicBezTo>
                  <a:pt x="8329" y="13459"/>
                  <a:pt x="8261" y="13612"/>
                  <a:pt x="8235" y="13692"/>
                </a:cubicBezTo>
                <a:cubicBezTo>
                  <a:pt x="8190" y="13835"/>
                  <a:pt x="8165" y="13991"/>
                  <a:pt x="8161" y="14139"/>
                </a:cubicBezTo>
                <a:cubicBezTo>
                  <a:pt x="8158" y="14247"/>
                  <a:pt x="8169" y="14335"/>
                  <a:pt x="8210" y="14436"/>
                </a:cubicBezTo>
                <a:cubicBezTo>
                  <a:pt x="8237" y="14502"/>
                  <a:pt x="8293" y="14558"/>
                  <a:pt x="8359" y="14585"/>
                </a:cubicBezTo>
                <a:cubicBezTo>
                  <a:pt x="8470" y="14631"/>
                  <a:pt x="8557" y="14576"/>
                  <a:pt x="8657" y="14536"/>
                </a:cubicBezTo>
                <a:cubicBezTo>
                  <a:pt x="8710" y="14514"/>
                  <a:pt x="8857" y="14450"/>
                  <a:pt x="8880" y="14387"/>
                </a:cubicBezTo>
                <a:cubicBezTo>
                  <a:pt x="8897" y="14340"/>
                  <a:pt x="8899" y="14148"/>
                  <a:pt x="8855" y="14114"/>
                </a:cubicBezTo>
                <a:cubicBezTo>
                  <a:pt x="8801" y="14072"/>
                  <a:pt x="8728" y="14042"/>
                  <a:pt x="8657" y="14064"/>
                </a:cubicBezTo>
                <a:cubicBezTo>
                  <a:pt x="8616" y="14077"/>
                  <a:pt x="8544" y="14146"/>
                  <a:pt x="8533" y="14188"/>
                </a:cubicBezTo>
                <a:cubicBezTo>
                  <a:pt x="8515" y="14258"/>
                  <a:pt x="8538" y="14371"/>
                  <a:pt x="8558" y="14436"/>
                </a:cubicBezTo>
                <a:cubicBezTo>
                  <a:pt x="8570" y="14476"/>
                  <a:pt x="8593" y="14522"/>
                  <a:pt x="8607" y="14560"/>
                </a:cubicBezTo>
              </a:path>
              <a:path w="3994" h="2829">
                <a:moveTo>
                  <a:pt x="7516" y="13940"/>
                </a:moveTo>
                <a:cubicBezTo>
                  <a:pt x="7449" y="13940"/>
                  <a:pt x="7553" y="13940"/>
                  <a:pt x="7565" y="13940"/>
                </a:cubicBezTo>
                <a:cubicBezTo>
                  <a:pt x="7623" y="13940"/>
                  <a:pt x="7681" y="13940"/>
                  <a:pt x="7739" y="13940"/>
                </a:cubicBezTo>
              </a:path>
              <a:path w="3994" h="2829">
                <a:moveTo>
                  <a:pt x="7268" y="14858"/>
                </a:moveTo>
                <a:cubicBezTo>
                  <a:pt x="7421" y="14965"/>
                  <a:pt x="7561" y="15067"/>
                  <a:pt x="7739" y="15131"/>
                </a:cubicBezTo>
                <a:cubicBezTo>
                  <a:pt x="7978" y="15217"/>
                  <a:pt x="8305" y="15258"/>
                  <a:pt x="8558" y="15255"/>
                </a:cubicBezTo>
                <a:cubicBezTo>
                  <a:pt x="8856" y="15251"/>
                  <a:pt x="9162" y="15131"/>
                  <a:pt x="9401" y="14957"/>
                </a:cubicBezTo>
                <a:cubicBezTo>
                  <a:pt x="9666" y="14764"/>
                  <a:pt x="9868" y="14501"/>
                  <a:pt x="10021" y="14213"/>
                </a:cubicBezTo>
                <a:cubicBezTo>
                  <a:pt x="10142" y="13985"/>
                  <a:pt x="10128" y="13765"/>
                  <a:pt x="10071" y="13519"/>
                </a:cubicBezTo>
                <a:cubicBezTo>
                  <a:pt x="10021" y="13303"/>
                  <a:pt x="9900" y="13061"/>
                  <a:pt x="9748" y="12898"/>
                </a:cubicBezTo>
                <a:cubicBezTo>
                  <a:pt x="9578" y="12715"/>
                  <a:pt x="9285" y="12575"/>
                  <a:pt x="9054" y="12502"/>
                </a:cubicBezTo>
                <a:cubicBezTo>
                  <a:pt x="8802" y="12422"/>
                  <a:pt x="8474" y="12392"/>
                  <a:pt x="8210" y="12427"/>
                </a:cubicBezTo>
                <a:cubicBezTo>
                  <a:pt x="7946" y="12462"/>
                  <a:pt x="7718" y="12565"/>
                  <a:pt x="7516" y="12725"/>
                </a:cubicBezTo>
                <a:cubicBezTo>
                  <a:pt x="7348" y="12859"/>
                  <a:pt x="7259" y="13017"/>
                  <a:pt x="7193" y="13221"/>
                </a:cubicBezTo>
                <a:cubicBezTo>
                  <a:pt x="7120" y="13445"/>
                  <a:pt x="7073" y="13655"/>
                  <a:pt x="7069" y="13891"/>
                </a:cubicBezTo>
                <a:cubicBezTo>
                  <a:pt x="7065" y="14127"/>
                  <a:pt x="7154" y="14324"/>
                  <a:pt x="7243" y="14536"/>
                </a:cubicBezTo>
                <a:cubicBezTo>
                  <a:pt x="7301" y="14673"/>
                  <a:pt x="7345" y="14816"/>
                  <a:pt x="7392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12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2514600"/>
          <a:ext cx="9907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990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90720" y="3505320"/>
          <a:ext cx="98748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05320"/>
                    <a:ext cx="9874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66680" y="4724280"/>
          <a:ext cx="65736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65736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410080" y="2514600"/>
          <a:ext cx="85248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2514600"/>
                    <a:ext cx="8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34120" y="4191120"/>
          <a:ext cx="90144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901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27200" y="255420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7045" y="7119"/>
                </a:moveTo>
                <a:cubicBezTo>
                  <a:pt x="7045" y="7262"/>
                  <a:pt x="7032" y="7399"/>
                  <a:pt x="7020" y="7541"/>
                </a:cubicBezTo>
                <a:cubicBezTo>
                  <a:pt x="7016" y="7582"/>
                  <a:pt x="7020" y="7656"/>
                  <a:pt x="7020" y="7615"/>
                </a:cubicBezTo>
              </a:path>
              <a:path w="546" h="547">
                <a:moveTo>
                  <a:pt x="7516" y="7094"/>
                </a:moveTo>
                <a:cubicBezTo>
                  <a:pt x="7442" y="7119"/>
                  <a:pt x="7376" y="7163"/>
                  <a:pt x="7317" y="7218"/>
                </a:cubicBezTo>
                <a:cubicBezTo>
                  <a:pt x="7252" y="7278"/>
                  <a:pt x="7386" y="7376"/>
                  <a:pt x="7417" y="7417"/>
                </a:cubicBezTo>
                <a:cubicBezTo>
                  <a:pt x="7489" y="7511"/>
                  <a:pt x="7479" y="7556"/>
                  <a:pt x="7417" y="7640"/>
                </a:cubicBezTo>
                <a:cubicBezTo>
                  <a:pt x="7338" y="7624"/>
                  <a:pt x="7302" y="7597"/>
                  <a:pt x="7293" y="7516"/>
                </a:cubicBezTo>
                <a:cubicBezTo>
                  <a:pt x="7281" y="7407"/>
                  <a:pt x="7453" y="7363"/>
                  <a:pt x="7516" y="7293"/>
                </a:cubicBezTo>
                <a:cubicBezTo>
                  <a:pt x="7567" y="7236"/>
                  <a:pt x="7554" y="7196"/>
                  <a:pt x="7541" y="7169"/>
                </a:cubicBezTo>
                <a:cubicBezTo>
                  <a:pt x="7541" y="7161"/>
                  <a:pt x="7541" y="7152"/>
                  <a:pt x="7541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20960" y="2652840"/>
            <a:ext cx="11736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7838" y="7417"/>
                </a:moveTo>
                <a:cubicBezTo>
                  <a:pt x="7931" y="7398"/>
                  <a:pt x="8011" y="7372"/>
                  <a:pt x="8111" y="7367"/>
                </a:cubicBezTo>
                <a:cubicBezTo>
                  <a:pt x="8136" y="7367"/>
                  <a:pt x="8144" y="7367"/>
                  <a:pt x="8161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81240" y="2446200"/>
            <a:ext cx="696960" cy="358920"/>
          </a:xfrm>
          <a:custGeom>
            <a:avLst/>
            <a:gdLst/>
            <a:ahLst/>
            <a:rect l="l" t="t" r="r" b="b"/>
            <a:pathLst>
              <a:path w="1935" h="994">
                <a:moveTo>
                  <a:pt x="8607" y="7094"/>
                </a:moveTo>
                <a:cubicBezTo>
                  <a:pt x="8607" y="7220"/>
                  <a:pt x="8568" y="7339"/>
                  <a:pt x="8558" y="7466"/>
                </a:cubicBezTo>
                <a:cubicBezTo>
                  <a:pt x="8552" y="7540"/>
                  <a:pt x="8558" y="7665"/>
                  <a:pt x="8558" y="7590"/>
                </a:cubicBezTo>
              </a:path>
              <a:path w="1935" h="994">
                <a:moveTo>
                  <a:pt x="8954" y="7045"/>
                </a:moveTo>
                <a:cubicBezTo>
                  <a:pt x="8849" y="7080"/>
                  <a:pt x="8781" y="7072"/>
                  <a:pt x="8781" y="7193"/>
                </a:cubicBezTo>
                <a:cubicBezTo>
                  <a:pt x="8857" y="7241"/>
                  <a:pt x="8967" y="7316"/>
                  <a:pt x="8979" y="7417"/>
                </a:cubicBezTo>
                <a:cubicBezTo>
                  <a:pt x="8991" y="7518"/>
                  <a:pt x="8882" y="7508"/>
                  <a:pt x="8830" y="7516"/>
                </a:cubicBezTo>
                <a:cubicBezTo>
                  <a:pt x="8843" y="7441"/>
                  <a:pt x="8851" y="7363"/>
                  <a:pt x="8880" y="7293"/>
                </a:cubicBezTo>
                <a:cubicBezTo>
                  <a:pt x="8916" y="7208"/>
                  <a:pt x="8990" y="7183"/>
                  <a:pt x="9004" y="7094"/>
                </a:cubicBezTo>
                <a:cubicBezTo>
                  <a:pt x="9004" y="7061"/>
                  <a:pt x="8996" y="7052"/>
                  <a:pt x="8954" y="7069"/>
                </a:cubicBezTo>
              </a:path>
              <a:path w="1935" h="994">
                <a:moveTo>
                  <a:pt x="9327" y="6821"/>
                </a:moveTo>
                <a:cubicBezTo>
                  <a:pt x="9258" y="6844"/>
                  <a:pt x="9184" y="6996"/>
                  <a:pt x="9153" y="7069"/>
                </a:cubicBezTo>
                <a:cubicBezTo>
                  <a:pt x="9061" y="7281"/>
                  <a:pt x="9065" y="7476"/>
                  <a:pt x="9128" y="7689"/>
                </a:cubicBezTo>
                <a:cubicBezTo>
                  <a:pt x="9147" y="7754"/>
                  <a:pt x="9137" y="7775"/>
                  <a:pt x="9178" y="7789"/>
                </a:cubicBezTo>
              </a:path>
              <a:path w="1935" h="994">
                <a:moveTo>
                  <a:pt x="9426" y="7268"/>
                </a:moveTo>
                <a:cubicBezTo>
                  <a:pt x="9463" y="7218"/>
                  <a:pt x="9507" y="7218"/>
                  <a:pt x="9575" y="7218"/>
                </a:cubicBezTo>
              </a:path>
              <a:path w="1935" h="994">
                <a:moveTo>
                  <a:pt x="9723" y="7119"/>
                </a:moveTo>
                <a:cubicBezTo>
                  <a:pt x="9710" y="7228"/>
                  <a:pt x="9680" y="7331"/>
                  <a:pt x="9674" y="7441"/>
                </a:cubicBezTo>
                <a:cubicBezTo>
                  <a:pt x="9674" y="7449"/>
                  <a:pt x="9674" y="7458"/>
                  <a:pt x="9674" y="7466"/>
                </a:cubicBezTo>
              </a:path>
              <a:path w="1935" h="994">
                <a:moveTo>
                  <a:pt x="9922" y="7069"/>
                </a:moveTo>
                <a:cubicBezTo>
                  <a:pt x="10010" y="7026"/>
                  <a:pt x="10110" y="7067"/>
                  <a:pt x="10120" y="7193"/>
                </a:cubicBezTo>
                <a:cubicBezTo>
                  <a:pt x="10133" y="7353"/>
                  <a:pt x="10039" y="7453"/>
                  <a:pt x="9897" y="7466"/>
                </a:cubicBezTo>
                <a:cubicBezTo>
                  <a:pt x="9834" y="7472"/>
                  <a:pt x="9854" y="7458"/>
                  <a:pt x="9823" y="7417"/>
                </a:cubicBezTo>
                <a:cubicBezTo>
                  <a:pt x="9899" y="7359"/>
                  <a:pt x="9969" y="7329"/>
                  <a:pt x="10046" y="7417"/>
                </a:cubicBezTo>
                <a:cubicBezTo>
                  <a:pt x="10068" y="7460"/>
                  <a:pt x="10072" y="7472"/>
                  <a:pt x="10096" y="7491"/>
                </a:cubicBezTo>
              </a:path>
              <a:path w="1935" h="994">
                <a:moveTo>
                  <a:pt x="10269" y="6796"/>
                </a:moveTo>
                <a:cubicBezTo>
                  <a:pt x="10397" y="6913"/>
                  <a:pt x="10492" y="7055"/>
                  <a:pt x="10492" y="7243"/>
                </a:cubicBezTo>
                <a:cubicBezTo>
                  <a:pt x="10492" y="7441"/>
                  <a:pt x="10414" y="7508"/>
                  <a:pt x="10319" y="7640"/>
                </a:cubicBezTo>
                <a:cubicBezTo>
                  <a:pt x="10319" y="7673"/>
                  <a:pt x="10311" y="7682"/>
                  <a:pt x="10269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920" y="2803680"/>
            <a:ext cx="1258920" cy="312480"/>
          </a:xfrm>
          <a:custGeom>
            <a:avLst/>
            <a:gdLst/>
            <a:ahLst/>
            <a:rect l="l" t="t" r="r" b="b"/>
            <a:pathLst>
              <a:path w="3499" h="869">
                <a:moveTo>
                  <a:pt x="6970" y="7962"/>
                </a:moveTo>
                <a:cubicBezTo>
                  <a:pt x="7038" y="7946"/>
                  <a:pt x="7096" y="7940"/>
                  <a:pt x="7169" y="7938"/>
                </a:cubicBezTo>
                <a:cubicBezTo>
                  <a:pt x="7265" y="7935"/>
                  <a:pt x="7329" y="7959"/>
                  <a:pt x="7417" y="7962"/>
                </a:cubicBezTo>
                <a:cubicBezTo>
                  <a:pt x="7837" y="7977"/>
                  <a:pt x="8267" y="7971"/>
                  <a:pt x="8682" y="7938"/>
                </a:cubicBezTo>
                <a:cubicBezTo>
                  <a:pt x="8815" y="7927"/>
                  <a:pt x="8948" y="7935"/>
                  <a:pt x="9079" y="7913"/>
                </a:cubicBezTo>
                <a:cubicBezTo>
                  <a:pt x="9217" y="7890"/>
                  <a:pt x="9363" y="7889"/>
                  <a:pt x="9500" y="7863"/>
                </a:cubicBezTo>
                <a:cubicBezTo>
                  <a:pt x="9633" y="7838"/>
                  <a:pt x="9763" y="7856"/>
                  <a:pt x="9897" y="7838"/>
                </a:cubicBezTo>
                <a:cubicBezTo>
                  <a:pt x="10001" y="7824"/>
                  <a:pt x="10089" y="7813"/>
                  <a:pt x="10195" y="7813"/>
                </a:cubicBezTo>
                <a:cubicBezTo>
                  <a:pt x="10277" y="7813"/>
                  <a:pt x="10342" y="7801"/>
                  <a:pt x="10418" y="7789"/>
                </a:cubicBezTo>
                <a:cubicBezTo>
                  <a:pt x="10443" y="7789"/>
                  <a:pt x="10451" y="7789"/>
                  <a:pt x="10468" y="7789"/>
                </a:cubicBezTo>
              </a:path>
              <a:path w="3499" h="869">
                <a:moveTo>
                  <a:pt x="8359" y="8235"/>
                </a:moveTo>
                <a:cubicBezTo>
                  <a:pt x="8359" y="8173"/>
                  <a:pt x="8292" y="8458"/>
                  <a:pt x="8285" y="8483"/>
                </a:cubicBezTo>
                <a:cubicBezTo>
                  <a:pt x="8264" y="8563"/>
                  <a:pt x="8250" y="8596"/>
                  <a:pt x="8235" y="8657"/>
                </a:cubicBezTo>
                <a:cubicBezTo>
                  <a:pt x="8235" y="8577"/>
                  <a:pt x="8256" y="8539"/>
                  <a:pt x="8334" y="8508"/>
                </a:cubicBezTo>
              </a:path>
              <a:path w="3499" h="869">
                <a:moveTo>
                  <a:pt x="8756" y="8210"/>
                </a:moveTo>
                <a:cubicBezTo>
                  <a:pt x="8705" y="8220"/>
                  <a:pt x="8585" y="8265"/>
                  <a:pt x="8558" y="8310"/>
                </a:cubicBezTo>
                <a:cubicBezTo>
                  <a:pt x="8558" y="8326"/>
                  <a:pt x="8558" y="8343"/>
                  <a:pt x="8558" y="8359"/>
                </a:cubicBezTo>
                <a:cubicBezTo>
                  <a:pt x="8598" y="8412"/>
                  <a:pt x="8727" y="8479"/>
                  <a:pt x="8706" y="8558"/>
                </a:cubicBezTo>
                <a:cubicBezTo>
                  <a:pt x="8682" y="8607"/>
                  <a:pt x="8673" y="8624"/>
                  <a:pt x="8632" y="8632"/>
                </a:cubicBezTo>
                <a:cubicBezTo>
                  <a:pt x="8559" y="8614"/>
                  <a:pt x="8548" y="8550"/>
                  <a:pt x="8582" y="8483"/>
                </a:cubicBezTo>
                <a:cubicBezTo>
                  <a:pt x="8622" y="8403"/>
                  <a:pt x="8696" y="8324"/>
                  <a:pt x="8756" y="8260"/>
                </a:cubicBezTo>
                <a:cubicBezTo>
                  <a:pt x="8764" y="8252"/>
                  <a:pt x="8773" y="8243"/>
                  <a:pt x="8781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28920" y="2482920"/>
            <a:ext cx="1920960" cy="2803320"/>
          </a:xfrm>
          <a:custGeom>
            <a:avLst/>
            <a:gdLst/>
            <a:ahLst/>
            <a:rect l="l" t="t" r="r" b="b"/>
            <a:pathLst>
              <a:path w="5334" h="7789">
                <a:moveTo>
                  <a:pt x="10691" y="7714"/>
                </a:moveTo>
                <a:cubicBezTo>
                  <a:pt x="10719" y="7714"/>
                  <a:pt x="10730" y="7712"/>
                  <a:pt x="10740" y="7689"/>
                </a:cubicBezTo>
              </a:path>
              <a:path w="5334" h="7789">
                <a:moveTo>
                  <a:pt x="10616" y="7888"/>
                </a:moveTo>
                <a:cubicBezTo>
                  <a:pt x="10666" y="7913"/>
                  <a:pt x="10683" y="7921"/>
                  <a:pt x="10716" y="7888"/>
                </a:cubicBezTo>
              </a:path>
              <a:path w="5334" h="7789">
                <a:moveTo>
                  <a:pt x="11981" y="6921"/>
                </a:moveTo>
                <a:cubicBezTo>
                  <a:pt x="12029" y="6914"/>
                  <a:pt x="12039" y="6906"/>
                  <a:pt x="12080" y="6896"/>
                </a:cubicBezTo>
              </a:path>
              <a:path w="5334" h="7789">
                <a:moveTo>
                  <a:pt x="6896" y="13965"/>
                </a:moveTo>
                <a:cubicBezTo>
                  <a:pt x="6772" y="14088"/>
                  <a:pt x="6720" y="14322"/>
                  <a:pt x="6747" y="14511"/>
                </a:cubicBezTo>
                <a:cubicBezTo>
                  <a:pt x="6788" y="14615"/>
                  <a:pt x="6790" y="14642"/>
                  <a:pt x="684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3251160"/>
            <a:ext cx="660240" cy="160200"/>
          </a:xfrm>
          <a:custGeom>
            <a:avLst/>
            <a:gdLst/>
            <a:ahLst/>
            <a:rect l="l" t="t" r="r" b="b"/>
            <a:pathLst>
              <a:path w="1836" h="447">
                <a:moveTo>
                  <a:pt x="6573" y="9029"/>
                </a:moveTo>
                <a:cubicBezTo>
                  <a:pt x="6560" y="9117"/>
                  <a:pt x="6541" y="9203"/>
                  <a:pt x="6499" y="9277"/>
                </a:cubicBezTo>
              </a:path>
              <a:path w="1836" h="447">
                <a:moveTo>
                  <a:pt x="8136" y="9475"/>
                </a:moveTo>
                <a:cubicBezTo>
                  <a:pt x="8243" y="9454"/>
                  <a:pt x="8267" y="9446"/>
                  <a:pt x="8334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5360" y="3062160"/>
            <a:ext cx="1758960" cy="430200"/>
          </a:xfrm>
          <a:custGeom>
            <a:avLst/>
            <a:gdLst/>
            <a:ahLst/>
            <a:rect l="l" t="t" r="r" b="b"/>
            <a:pathLst>
              <a:path w="4887" h="1192">
                <a:moveTo>
                  <a:pt x="6846" y="9004"/>
                </a:moveTo>
                <a:cubicBezTo>
                  <a:pt x="6796" y="9029"/>
                  <a:pt x="6780" y="9037"/>
                  <a:pt x="6747" y="9054"/>
                </a:cubicBezTo>
                <a:cubicBezTo>
                  <a:pt x="6765" y="9100"/>
                  <a:pt x="6832" y="9153"/>
                  <a:pt x="6846" y="9203"/>
                </a:cubicBezTo>
                <a:cubicBezTo>
                  <a:pt x="6846" y="9244"/>
                  <a:pt x="6846" y="9252"/>
                  <a:pt x="6846" y="9277"/>
                </a:cubicBezTo>
                <a:cubicBezTo>
                  <a:pt x="6806" y="9250"/>
                  <a:pt x="6764" y="9216"/>
                  <a:pt x="6796" y="9153"/>
                </a:cubicBezTo>
                <a:cubicBezTo>
                  <a:pt x="6816" y="9114"/>
                  <a:pt x="6887" y="9071"/>
                  <a:pt x="6896" y="9054"/>
                </a:cubicBezTo>
                <a:cubicBezTo>
                  <a:pt x="6896" y="9046"/>
                  <a:pt x="6896" y="9037"/>
                  <a:pt x="6896" y="9029"/>
                </a:cubicBezTo>
              </a:path>
              <a:path w="4887" h="1192">
                <a:moveTo>
                  <a:pt x="7094" y="9054"/>
                </a:moveTo>
                <a:cubicBezTo>
                  <a:pt x="7084" y="9106"/>
                  <a:pt x="7055" y="9151"/>
                  <a:pt x="7045" y="9203"/>
                </a:cubicBezTo>
              </a:path>
              <a:path w="4887" h="1192">
                <a:moveTo>
                  <a:pt x="6970" y="9153"/>
                </a:moveTo>
                <a:cubicBezTo>
                  <a:pt x="7014" y="9144"/>
                  <a:pt x="7047" y="9128"/>
                  <a:pt x="7094" y="9128"/>
                </a:cubicBezTo>
              </a:path>
              <a:path w="4887" h="1192">
                <a:moveTo>
                  <a:pt x="7293" y="9079"/>
                </a:moveTo>
                <a:cubicBezTo>
                  <a:pt x="7230" y="9079"/>
                  <a:pt x="7353" y="9056"/>
                  <a:pt x="7367" y="9054"/>
                </a:cubicBezTo>
                <a:cubicBezTo>
                  <a:pt x="7341" y="9132"/>
                  <a:pt x="7279" y="9168"/>
                  <a:pt x="7243" y="9227"/>
                </a:cubicBezTo>
                <a:cubicBezTo>
                  <a:pt x="7313" y="9227"/>
                  <a:pt x="7386" y="9244"/>
                  <a:pt x="7441" y="9203"/>
                </a:cubicBezTo>
              </a:path>
              <a:path w="4887" h="1192">
                <a:moveTo>
                  <a:pt x="7565" y="9029"/>
                </a:moveTo>
                <a:cubicBezTo>
                  <a:pt x="7565" y="9077"/>
                  <a:pt x="7537" y="9188"/>
                  <a:pt x="7541" y="9203"/>
                </a:cubicBezTo>
                <a:cubicBezTo>
                  <a:pt x="7549" y="9203"/>
                  <a:pt x="7557" y="9203"/>
                  <a:pt x="7565" y="9203"/>
                </a:cubicBezTo>
              </a:path>
              <a:path w="4887" h="1192">
                <a:moveTo>
                  <a:pt x="7764" y="9004"/>
                </a:moveTo>
                <a:cubicBezTo>
                  <a:pt x="7749" y="9065"/>
                  <a:pt x="7691" y="9184"/>
                  <a:pt x="7789" y="9203"/>
                </a:cubicBezTo>
                <a:cubicBezTo>
                  <a:pt x="7869" y="9218"/>
                  <a:pt x="7904" y="9184"/>
                  <a:pt x="7938" y="9128"/>
                </a:cubicBezTo>
                <a:cubicBezTo>
                  <a:pt x="7880" y="9128"/>
                  <a:pt x="7867" y="9141"/>
                  <a:pt x="7838" y="9178"/>
                </a:cubicBezTo>
                <a:cubicBezTo>
                  <a:pt x="7830" y="9186"/>
                  <a:pt x="7821" y="9195"/>
                  <a:pt x="7813" y="9203"/>
                </a:cubicBezTo>
              </a:path>
              <a:path w="4887" h="1192">
                <a:moveTo>
                  <a:pt x="6375" y="9426"/>
                </a:moveTo>
                <a:cubicBezTo>
                  <a:pt x="6629" y="9394"/>
                  <a:pt x="6862" y="9367"/>
                  <a:pt x="7119" y="9351"/>
                </a:cubicBezTo>
                <a:cubicBezTo>
                  <a:pt x="7337" y="9337"/>
                  <a:pt x="7549" y="9313"/>
                  <a:pt x="7764" y="9277"/>
                </a:cubicBezTo>
              </a:path>
              <a:path w="4887" h="1192">
                <a:moveTo>
                  <a:pt x="6970" y="9500"/>
                </a:moveTo>
                <a:cubicBezTo>
                  <a:pt x="6970" y="9555"/>
                  <a:pt x="6968" y="9629"/>
                  <a:pt x="6945" y="9674"/>
                </a:cubicBezTo>
                <a:cubicBezTo>
                  <a:pt x="6945" y="9666"/>
                  <a:pt x="6945" y="9657"/>
                  <a:pt x="6945" y="9649"/>
                </a:cubicBezTo>
              </a:path>
              <a:path w="4887" h="1192">
                <a:moveTo>
                  <a:pt x="7367" y="9475"/>
                </a:moveTo>
                <a:cubicBezTo>
                  <a:pt x="7332" y="9458"/>
                  <a:pt x="7215" y="9485"/>
                  <a:pt x="7144" y="9500"/>
                </a:cubicBezTo>
                <a:cubicBezTo>
                  <a:pt x="7175" y="9532"/>
                  <a:pt x="7368" y="9568"/>
                  <a:pt x="7342" y="9674"/>
                </a:cubicBezTo>
                <a:cubicBezTo>
                  <a:pt x="7326" y="9682"/>
                  <a:pt x="7309" y="9691"/>
                  <a:pt x="7293" y="9699"/>
                </a:cubicBezTo>
                <a:cubicBezTo>
                  <a:pt x="7152" y="9683"/>
                  <a:pt x="7228" y="9581"/>
                  <a:pt x="7317" y="9500"/>
                </a:cubicBezTo>
                <a:cubicBezTo>
                  <a:pt x="7358" y="9480"/>
                  <a:pt x="7385" y="9471"/>
                  <a:pt x="7342" y="9475"/>
                </a:cubicBezTo>
              </a:path>
              <a:path w="4887" h="1192">
                <a:moveTo>
                  <a:pt x="8086" y="9401"/>
                </a:moveTo>
                <a:cubicBezTo>
                  <a:pt x="8150" y="9364"/>
                  <a:pt x="8247" y="9326"/>
                  <a:pt x="8285" y="9351"/>
                </a:cubicBezTo>
              </a:path>
              <a:path w="4887" h="1192">
                <a:moveTo>
                  <a:pt x="8806" y="8954"/>
                </a:moveTo>
                <a:cubicBezTo>
                  <a:pt x="8801" y="8913"/>
                  <a:pt x="8781" y="8802"/>
                  <a:pt x="8781" y="8905"/>
                </a:cubicBezTo>
                <a:cubicBezTo>
                  <a:pt x="8732" y="8881"/>
                  <a:pt x="8814" y="8872"/>
                  <a:pt x="8855" y="8855"/>
                </a:cubicBezTo>
                <a:cubicBezTo>
                  <a:pt x="8839" y="9010"/>
                  <a:pt x="8815" y="9051"/>
                  <a:pt x="8682" y="9128"/>
                </a:cubicBezTo>
                <a:cubicBezTo>
                  <a:pt x="8665" y="9136"/>
                  <a:pt x="8649" y="9145"/>
                  <a:pt x="8632" y="9153"/>
                </a:cubicBezTo>
                <a:cubicBezTo>
                  <a:pt x="8649" y="9102"/>
                  <a:pt x="8749" y="9088"/>
                  <a:pt x="8806" y="9128"/>
                </a:cubicBezTo>
                <a:cubicBezTo>
                  <a:pt x="8806" y="9136"/>
                  <a:pt x="8806" y="9145"/>
                  <a:pt x="8806" y="9153"/>
                </a:cubicBezTo>
              </a:path>
              <a:path w="4887" h="1192">
                <a:moveTo>
                  <a:pt x="8979" y="8905"/>
                </a:moveTo>
                <a:cubicBezTo>
                  <a:pt x="8993" y="8895"/>
                  <a:pt x="9140" y="8815"/>
                  <a:pt x="9153" y="8855"/>
                </a:cubicBezTo>
                <a:cubicBezTo>
                  <a:pt x="9153" y="8928"/>
                  <a:pt x="9154" y="8952"/>
                  <a:pt x="9103" y="8979"/>
                </a:cubicBezTo>
                <a:cubicBezTo>
                  <a:pt x="9089" y="8979"/>
                  <a:pt x="9149" y="8974"/>
                  <a:pt x="9153" y="9054"/>
                </a:cubicBezTo>
                <a:cubicBezTo>
                  <a:pt x="9158" y="9161"/>
                  <a:pt x="8983" y="9192"/>
                  <a:pt x="8979" y="9128"/>
                </a:cubicBezTo>
                <a:cubicBezTo>
                  <a:pt x="8987" y="9103"/>
                  <a:pt x="8996" y="9079"/>
                  <a:pt x="9004" y="9054"/>
                </a:cubicBezTo>
              </a:path>
              <a:path w="4887" h="1192">
                <a:moveTo>
                  <a:pt x="9327" y="8855"/>
                </a:moveTo>
                <a:cubicBezTo>
                  <a:pt x="9327" y="8908"/>
                  <a:pt x="9320" y="8918"/>
                  <a:pt x="9302" y="8979"/>
                </a:cubicBezTo>
                <a:cubicBezTo>
                  <a:pt x="9411" y="9012"/>
                  <a:pt x="9424" y="9001"/>
                  <a:pt x="9525" y="8954"/>
                </a:cubicBezTo>
              </a:path>
              <a:path w="4887" h="1192">
                <a:moveTo>
                  <a:pt x="9575" y="8756"/>
                </a:moveTo>
                <a:cubicBezTo>
                  <a:pt x="9517" y="8885"/>
                  <a:pt x="9485" y="9034"/>
                  <a:pt x="9426" y="9153"/>
                </a:cubicBezTo>
              </a:path>
              <a:path w="4887" h="1192">
                <a:moveTo>
                  <a:pt x="8533" y="9327"/>
                </a:moveTo>
                <a:cubicBezTo>
                  <a:pt x="8730" y="9302"/>
                  <a:pt x="8930" y="9276"/>
                  <a:pt x="9128" y="9252"/>
                </a:cubicBezTo>
                <a:cubicBezTo>
                  <a:pt x="9293" y="9231"/>
                  <a:pt x="9326" y="9223"/>
                  <a:pt x="9426" y="9227"/>
                </a:cubicBezTo>
              </a:path>
              <a:path w="4887" h="1192">
                <a:moveTo>
                  <a:pt x="8880" y="9401"/>
                </a:moveTo>
                <a:cubicBezTo>
                  <a:pt x="8805" y="9476"/>
                  <a:pt x="8651" y="9675"/>
                  <a:pt x="8756" y="9674"/>
                </a:cubicBezTo>
                <a:cubicBezTo>
                  <a:pt x="8773" y="9657"/>
                  <a:pt x="8789" y="9641"/>
                  <a:pt x="8806" y="9624"/>
                </a:cubicBezTo>
              </a:path>
              <a:path w="4887" h="1192">
                <a:moveTo>
                  <a:pt x="9203" y="9351"/>
                </a:moveTo>
                <a:cubicBezTo>
                  <a:pt x="9142" y="9385"/>
                  <a:pt x="9071" y="9407"/>
                  <a:pt x="9054" y="9475"/>
                </a:cubicBezTo>
                <a:cubicBezTo>
                  <a:pt x="9134" y="9529"/>
                  <a:pt x="9173" y="9545"/>
                  <a:pt x="9203" y="9624"/>
                </a:cubicBezTo>
                <a:cubicBezTo>
                  <a:pt x="9108" y="9677"/>
                  <a:pt x="9038" y="9677"/>
                  <a:pt x="9128" y="9550"/>
                </a:cubicBezTo>
                <a:cubicBezTo>
                  <a:pt x="9154" y="9513"/>
                  <a:pt x="9217" y="9413"/>
                  <a:pt x="9252" y="9401"/>
                </a:cubicBezTo>
              </a:path>
              <a:path w="4887" h="1192">
                <a:moveTo>
                  <a:pt x="9773" y="9277"/>
                </a:moveTo>
                <a:cubicBezTo>
                  <a:pt x="9876" y="9238"/>
                  <a:pt x="9886" y="9227"/>
                  <a:pt x="9996" y="9227"/>
                </a:cubicBezTo>
              </a:path>
              <a:path w="4887" h="1192">
                <a:moveTo>
                  <a:pt x="9748" y="9376"/>
                </a:moveTo>
                <a:cubicBezTo>
                  <a:pt x="9828" y="9359"/>
                  <a:pt x="9886" y="9351"/>
                  <a:pt x="9971" y="9351"/>
                </a:cubicBezTo>
              </a:path>
              <a:path w="4887" h="1192">
                <a:moveTo>
                  <a:pt x="10393" y="8954"/>
                </a:moveTo>
                <a:cubicBezTo>
                  <a:pt x="10393" y="8859"/>
                  <a:pt x="10355" y="9091"/>
                  <a:pt x="10319" y="9178"/>
                </a:cubicBezTo>
                <a:cubicBezTo>
                  <a:pt x="10302" y="9211"/>
                  <a:pt x="10286" y="9244"/>
                  <a:pt x="10269" y="9277"/>
                </a:cubicBezTo>
              </a:path>
              <a:path w="4887" h="1192">
                <a:moveTo>
                  <a:pt x="10641" y="8880"/>
                </a:moveTo>
                <a:cubicBezTo>
                  <a:pt x="10673" y="8837"/>
                  <a:pt x="10704" y="8837"/>
                  <a:pt x="10765" y="8830"/>
                </a:cubicBezTo>
                <a:cubicBezTo>
                  <a:pt x="10749" y="8927"/>
                  <a:pt x="10710" y="8960"/>
                  <a:pt x="10641" y="9029"/>
                </a:cubicBezTo>
                <a:cubicBezTo>
                  <a:pt x="10657" y="8981"/>
                  <a:pt x="10797" y="8986"/>
                  <a:pt x="10815" y="9054"/>
                </a:cubicBezTo>
                <a:cubicBezTo>
                  <a:pt x="10868" y="9250"/>
                  <a:pt x="10642" y="9238"/>
                  <a:pt x="10567" y="9178"/>
                </a:cubicBezTo>
              </a:path>
              <a:path w="4887" h="1192">
                <a:moveTo>
                  <a:pt x="10096" y="9451"/>
                </a:moveTo>
                <a:cubicBezTo>
                  <a:pt x="10154" y="9625"/>
                  <a:pt x="10318" y="9609"/>
                  <a:pt x="10492" y="9599"/>
                </a:cubicBezTo>
                <a:cubicBezTo>
                  <a:pt x="10736" y="9585"/>
                  <a:pt x="11016" y="9490"/>
                  <a:pt x="11162" y="9277"/>
                </a:cubicBezTo>
                <a:cubicBezTo>
                  <a:pt x="11331" y="9030"/>
                  <a:pt x="11274" y="8787"/>
                  <a:pt x="11013" y="8632"/>
                </a:cubicBezTo>
                <a:cubicBezTo>
                  <a:pt x="10794" y="8502"/>
                  <a:pt x="10474" y="8445"/>
                  <a:pt x="10269" y="8632"/>
                </a:cubicBezTo>
                <a:cubicBezTo>
                  <a:pt x="9927" y="8944"/>
                  <a:pt x="10008" y="9155"/>
                  <a:pt x="10319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5081760"/>
            <a:ext cx="18864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6028" y="14213"/>
                </a:moveTo>
                <a:cubicBezTo>
                  <a:pt x="6028" y="14366"/>
                  <a:pt x="6017" y="14510"/>
                  <a:pt x="6003" y="14660"/>
                </a:cubicBezTo>
                <a:cubicBezTo>
                  <a:pt x="6003" y="14676"/>
                  <a:pt x="6003" y="14693"/>
                  <a:pt x="6003" y="14709"/>
                </a:cubicBezTo>
              </a:path>
              <a:path w="522" h="596">
                <a:moveTo>
                  <a:pt x="6474" y="14114"/>
                </a:moveTo>
                <a:cubicBezTo>
                  <a:pt x="6420" y="14141"/>
                  <a:pt x="6373" y="14190"/>
                  <a:pt x="6325" y="14238"/>
                </a:cubicBezTo>
                <a:cubicBezTo>
                  <a:pt x="6372" y="14345"/>
                  <a:pt x="6518" y="14412"/>
                  <a:pt x="6524" y="14560"/>
                </a:cubicBezTo>
                <a:cubicBezTo>
                  <a:pt x="6516" y="14577"/>
                  <a:pt x="6507" y="14593"/>
                  <a:pt x="6499" y="14610"/>
                </a:cubicBezTo>
                <a:cubicBezTo>
                  <a:pt x="6387" y="14590"/>
                  <a:pt x="6313" y="14529"/>
                  <a:pt x="6350" y="14387"/>
                </a:cubicBezTo>
                <a:cubicBezTo>
                  <a:pt x="6373" y="14298"/>
                  <a:pt x="6438" y="14249"/>
                  <a:pt x="6499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8160" y="3670200"/>
            <a:ext cx="1054080" cy="554040"/>
          </a:xfrm>
          <a:custGeom>
            <a:avLst/>
            <a:gdLst/>
            <a:ahLst/>
            <a:rect l="l" t="t" r="r" b="b"/>
            <a:pathLst>
              <a:path w="2928" h="1539">
                <a:moveTo>
                  <a:pt x="7615" y="10616"/>
                </a:moveTo>
                <a:cubicBezTo>
                  <a:pt x="7640" y="10616"/>
                  <a:pt x="7648" y="10616"/>
                  <a:pt x="7665" y="10616"/>
                </a:cubicBezTo>
              </a:path>
              <a:path w="2928" h="1539">
                <a:moveTo>
                  <a:pt x="7813" y="10443"/>
                </a:moveTo>
                <a:cubicBezTo>
                  <a:pt x="7800" y="10594"/>
                  <a:pt x="7714" y="10740"/>
                  <a:pt x="7714" y="10889"/>
                </a:cubicBezTo>
                <a:cubicBezTo>
                  <a:pt x="7722" y="10897"/>
                  <a:pt x="7731" y="10906"/>
                  <a:pt x="7739" y="10914"/>
                </a:cubicBezTo>
                <a:cubicBezTo>
                  <a:pt x="7810" y="10908"/>
                  <a:pt x="7961" y="10898"/>
                  <a:pt x="7962" y="10790"/>
                </a:cubicBezTo>
                <a:cubicBezTo>
                  <a:pt x="7954" y="10790"/>
                  <a:pt x="7946" y="10790"/>
                  <a:pt x="7938" y="10790"/>
                </a:cubicBezTo>
                <a:cubicBezTo>
                  <a:pt x="7890" y="10808"/>
                  <a:pt x="7761" y="10906"/>
                  <a:pt x="7888" y="10864"/>
                </a:cubicBezTo>
              </a:path>
              <a:path w="2928" h="1539">
                <a:moveTo>
                  <a:pt x="8161" y="10368"/>
                </a:moveTo>
                <a:cubicBezTo>
                  <a:pt x="8232" y="10422"/>
                  <a:pt x="8191" y="10430"/>
                  <a:pt x="8136" y="10517"/>
                </a:cubicBezTo>
                <a:cubicBezTo>
                  <a:pt x="8194" y="10532"/>
                  <a:pt x="8215" y="10529"/>
                  <a:pt x="8285" y="10517"/>
                </a:cubicBezTo>
              </a:path>
              <a:path w="2928" h="1539">
                <a:moveTo>
                  <a:pt x="8384" y="10195"/>
                </a:moveTo>
                <a:cubicBezTo>
                  <a:pt x="8555" y="10426"/>
                  <a:pt x="8590" y="10538"/>
                  <a:pt x="8458" y="10815"/>
                </a:cubicBezTo>
                <a:cubicBezTo>
                  <a:pt x="8429" y="10845"/>
                  <a:pt x="8424" y="10847"/>
                  <a:pt x="8458" y="10790"/>
                </a:cubicBezTo>
              </a:path>
              <a:path w="2928" h="1539">
                <a:moveTo>
                  <a:pt x="5854" y="11212"/>
                </a:moveTo>
                <a:cubicBezTo>
                  <a:pt x="6092" y="11176"/>
                  <a:pt x="6334" y="11142"/>
                  <a:pt x="6573" y="11112"/>
                </a:cubicBezTo>
                <a:cubicBezTo>
                  <a:pt x="7027" y="11055"/>
                  <a:pt x="7484" y="11044"/>
                  <a:pt x="7938" y="10988"/>
                </a:cubicBezTo>
                <a:cubicBezTo>
                  <a:pt x="8016" y="10978"/>
                  <a:pt x="8058" y="10972"/>
                  <a:pt x="8136" y="10964"/>
                </a:cubicBezTo>
              </a:path>
              <a:path w="2928" h="1539">
                <a:moveTo>
                  <a:pt x="6573" y="11559"/>
                </a:moveTo>
                <a:cubicBezTo>
                  <a:pt x="6573" y="11513"/>
                  <a:pt x="6632" y="11534"/>
                  <a:pt x="6672" y="11534"/>
                </a:cubicBezTo>
              </a:path>
              <a:path w="2928" h="1539">
                <a:moveTo>
                  <a:pt x="6796" y="11385"/>
                </a:moveTo>
                <a:cubicBezTo>
                  <a:pt x="6825" y="11501"/>
                  <a:pt x="6837" y="11625"/>
                  <a:pt x="6796" y="11733"/>
                </a:cubicBezTo>
              </a:path>
              <a:path w="2928" h="1539">
                <a:moveTo>
                  <a:pt x="6995" y="11410"/>
                </a:moveTo>
                <a:cubicBezTo>
                  <a:pt x="7038" y="11410"/>
                  <a:pt x="7127" y="11384"/>
                  <a:pt x="7144" y="11435"/>
                </a:cubicBezTo>
                <a:cubicBezTo>
                  <a:pt x="7182" y="11548"/>
                  <a:pt x="7017" y="11677"/>
                  <a:pt x="6945" y="11733"/>
                </a:cubicBezTo>
                <a:cubicBezTo>
                  <a:pt x="7022" y="11733"/>
                  <a:pt x="7093" y="11713"/>
                  <a:pt x="7169" y="11708"/>
                </a:cubicBezTo>
                <a:cubicBezTo>
                  <a:pt x="7193" y="11708"/>
                  <a:pt x="7202" y="11708"/>
                  <a:pt x="7218" y="11708"/>
                </a:cubicBezTo>
              </a:path>
              <a:path w="2928" h="1539">
                <a:moveTo>
                  <a:pt x="8558" y="11088"/>
                </a:moveTo>
                <a:cubicBezTo>
                  <a:pt x="8636" y="11075"/>
                  <a:pt x="8699" y="11063"/>
                  <a:pt x="8781" y="11063"/>
                </a:cubicBezTo>
                <a:cubicBezTo>
                  <a:pt x="8773" y="11063"/>
                  <a:pt x="8764" y="11063"/>
                  <a:pt x="8756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0760" y="3741840"/>
            <a:ext cx="3636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7491" y="10393"/>
                </a:moveTo>
                <a:cubicBezTo>
                  <a:pt x="7442" y="10550"/>
                  <a:pt x="7345" y="10771"/>
                  <a:pt x="7392" y="10939"/>
                </a:cubicBezTo>
                <a:cubicBezTo>
                  <a:pt x="7431" y="10978"/>
                  <a:pt x="7432" y="10994"/>
                  <a:pt x="7466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78612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5928" y="10765"/>
                </a:moveTo>
                <a:cubicBezTo>
                  <a:pt x="5936" y="10765"/>
                  <a:pt x="5945" y="10765"/>
                  <a:pt x="5953" y="10765"/>
                </a:cubicBezTo>
                <a:cubicBezTo>
                  <a:pt x="5980" y="10738"/>
                  <a:pt x="6022" y="10740"/>
                  <a:pt x="6077" y="10740"/>
                </a:cubicBezTo>
              </a:path>
              <a:path w="745" h="373">
                <a:moveTo>
                  <a:pt x="6300" y="10542"/>
                </a:moveTo>
                <a:cubicBezTo>
                  <a:pt x="6291" y="10651"/>
                  <a:pt x="6286" y="10785"/>
                  <a:pt x="6251" y="10889"/>
                </a:cubicBezTo>
                <a:cubicBezTo>
                  <a:pt x="6251" y="10881"/>
                  <a:pt x="6251" y="10872"/>
                  <a:pt x="6251" y="10864"/>
                </a:cubicBezTo>
              </a:path>
              <a:path w="745" h="373">
                <a:moveTo>
                  <a:pt x="6499" y="10542"/>
                </a:moveTo>
                <a:cubicBezTo>
                  <a:pt x="6613" y="10499"/>
                  <a:pt x="6645" y="10535"/>
                  <a:pt x="6598" y="10666"/>
                </a:cubicBezTo>
                <a:cubicBezTo>
                  <a:pt x="6565" y="10758"/>
                  <a:pt x="6523" y="10771"/>
                  <a:pt x="6474" y="10840"/>
                </a:cubicBezTo>
                <a:cubicBezTo>
                  <a:pt x="6540" y="10840"/>
                  <a:pt x="6606" y="10840"/>
                  <a:pt x="6672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0200" y="3840120"/>
            <a:ext cx="44640" cy="97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6945" y="10666"/>
                </a:moveTo>
                <a:cubicBezTo>
                  <a:pt x="6991" y="10693"/>
                  <a:pt x="7011" y="10691"/>
                  <a:pt x="7069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1800" y="3751200"/>
            <a:ext cx="687240" cy="196920"/>
          </a:xfrm>
          <a:custGeom>
            <a:avLst/>
            <a:gdLst/>
            <a:ahLst/>
            <a:rect l="l" t="t" r="r" b="b"/>
            <a:pathLst>
              <a:path w="1911" h="547">
                <a:moveTo>
                  <a:pt x="9004" y="10765"/>
                </a:moveTo>
                <a:cubicBezTo>
                  <a:pt x="9064" y="10755"/>
                  <a:pt x="9115" y="10740"/>
                  <a:pt x="9178" y="10740"/>
                </a:cubicBezTo>
              </a:path>
              <a:path w="1911" h="547">
                <a:moveTo>
                  <a:pt x="9327" y="10517"/>
                </a:moveTo>
                <a:cubicBezTo>
                  <a:pt x="9327" y="10667"/>
                  <a:pt x="9197" y="11070"/>
                  <a:pt x="9302" y="10964"/>
                </a:cubicBezTo>
                <a:cubicBezTo>
                  <a:pt x="9310" y="10939"/>
                  <a:pt x="9319" y="10914"/>
                  <a:pt x="9327" y="10889"/>
                </a:cubicBezTo>
              </a:path>
              <a:path w="1911" h="547">
                <a:moveTo>
                  <a:pt x="9475" y="10592"/>
                </a:moveTo>
                <a:cubicBezTo>
                  <a:pt x="9578" y="10575"/>
                  <a:pt x="9671" y="10560"/>
                  <a:pt x="9624" y="10716"/>
                </a:cubicBezTo>
                <a:cubicBezTo>
                  <a:pt x="9599" y="10799"/>
                  <a:pt x="9556" y="10833"/>
                  <a:pt x="9500" y="10889"/>
                </a:cubicBezTo>
                <a:cubicBezTo>
                  <a:pt x="9574" y="10889"/>
                  <a:pt x="9649" y="10889"/>
                  <a:pt x="9723" y="10889"/>
                </a:cubicBezTo>
              </a:path>
              <a:path w="1911" h="547">
                <a:moveTo>
                  <a:pt x="9922" y="10765"/>
                </a:moveTo>
                <a:cubicBezTo>
                  <a:pt x="9980" y="10765"/>
                  <a:pt x="10038" y="10765"/>
                  <a:pt x="10096" y="10765"/>
                </a:cubicBezTo>
              </a:path>
              <a:path w="1911" h="547">
                <a:moveTo>
                  <a:pt x="10344" y="10542"/>
                </a:moveTo>
                <a:cubicBezTo>
                  <a:pt x="10377" y="10525"/>
                  <a:pt x="10497" y="10436"/>
                  <a:pt x="10492" y="10542"/>
                </a:cubicBezTo>
                <a:cubicBezTo>
                  <a:pt x="10488" y="10623"/>
                  <a:pt x="10443" y="10617"/>
                  <a:pt x="10418" y="10666"/>
                </a:cubicBezTo>
                <a:cubicBezTo>
                  <a:pt x="10410" y="10666"/>
                  <a:pt x="10401" y="10666"/>
                  <a:pt x="10393" y="10666"/>
                </a:cubicBezTo>
                <a:cubicBezTo>
                  <a:pt x="10482" y="10666"/>
                  <a:pt x="10551" y="10652"/>
                  <a:pt x="10542" y="10765"/>
                </a:cubicBezTo>
                <a:cubicBezTo>
                  <a:pt x="10535" y="10850"/>
                  <a:pt x="10381" y="10956"/>
                  <a:pt x="10319" y="10889"/>
                </a:cubicBezTo>
                <a:cubicBezTo>
                  <a:pt x="10294" y="10840"/>
                  <a:pt x="10286" y="10823"/>
                  <a:pt x="10319" y="10790"/>
                </a:cubicBezTo>
              </a:path>
              <a:path w="1911" h="547">
                <a:moveTo>
                  <a:pt x="10666" y="10418"/>
                </a:moveTo>
                <a:cubicBezTo>
                  <a:pt x="10687" y="10546"/>
                  <a:pt x="10677" y="10634"/>
                  <a:pt x="10666" y="10765"/>
                </a:cubicBezTo>
                <a:cubicBezTo>
                  <a:pt x="10666" y="10831"/>
                  <a:pt x="10666" y="10848"/>
                  <a:pt x="10666" y="10889"/>
                </a:cubicBezTo>
                <a:cubicBezTo>
                  <a:pt x="10758" y="10876"/>
                  <a:pt x="10875" y="10864"/>
                  <a:pt x="10914" y="10765"/>
                </a:cubicBezTo>
                <a:cubicBezTo>
                  <a:pt x="10914" y="10724"/>
                  <a:pt x="10922" y="10708"/>
                  <a:pt x="10889" y="10716"/>
                </a:cubicBezTo>
                <a:cubicBezTo>
                  <a:pt x="10779" y="10746"/>
                  <a:pt x="10788" y="10751"/>
                  <a:pt x="1074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7720" y="3751200"/>
            <a:ext cx="1187280" cy="428760"/>
          </a:xfrm>
          <a:custGeom>
            <a:avLst/>
            <a:gdLst/>
            <a:ahLst/>
            <a:rect l="l" t="t" r="r" b="b"/>
            <a:pathLst>
              <a:path w="3300" h="1192">
                <a:moveTo>
                  <a:pt x="9327" y="11112"/>
                </a:moveTo>
                <a:cubicBezTo>
                  <a:pt x="9664" y="11059"/>
                  <a:pt x="10004" y="11043"/>
                  <a:pt x="10344" y="11013"/>
                </a:cubicBezTo>
                <a:cubicBezTo>
                  <a:pt x="10472" y="11002"/>
                  <a:pt x="10672" y="10965"/>
                  <a:pt x="10790" y="10988"/>
                </a:cubicBezTo>
              </a:path>
              <a:path w="3300" h="1192">
                <a:moveTo>
                  <a:pt x="9525" y="11286"/>
                </a:moveTo>
                <a:cubicBezTo>
                  <a:pt x="9583" y="11301"/>
                  <a:pt x="9604" y="11298"/>
                  <a:pt x="9674" y="11286"/>
                </a:cubicBezTo>
              </a:path>
              <a:path w="3300" h="1192">
                <a:moveTo>
                  <a:pt x="9823" y="11212"/>
                </a:moveTo>
                <a:cubicBezTo>
                  <a:pt x="9816" y="11341"/>
                  <a:pt x="9743" y="11563"/>
                  <a:pt x="9798" y="11534"/>
                </a:cubicBezTo>
              </a:path>
              <a:path w="3300" h="1192">
                <a:moveTo>
                  <a:pt x="10021" y="11286"/>
                </a:moveTo>
                <a:cubicBezTo>
                  <a:pt x="10094" y="11269"/>
                  <a:pt x="10143" y="11261"/>
                  <a:pt x="10220" y="11261"/>
                </a:cubicBezTo>
                <a:cubicBezTo>
                  <a:pt x="10211" y="11383"/>
                  <a:pt x="10175" y="11515"/>
                  <a:pt x="10096" y="11609"/>
                </a:cubicBezTo>
                <a:cubicBezTo>
                  <a:pt x="10088" y="11609"/>
                  <a:pt x="10079" y="11609"/>
                  <a:pt x="10071" y="11609"/>
                </a:cubicBezTo>
                <a:cubicBezTo>
                  <a:pt x="10159" y="11609"/>
                  <a:pt x="10233" y="11596"/>
                  <a:pt x="10319" y="11584"/>
                </a:cubicBezTo>
              </a:path>
              <a:path w="3300" h="1192">
                <a:moveTo>
                  <a:pt x="10939" y="11013"/>
                </a:moveTo>
                <a:cubicBezTo>
                  <a:pt x="10993" y="11013"/>
                  <a:pt x="11035" y="10995"/>
                  <a:pt x="11088" y="10988"/>
                </a:cubicBezTo>
              </a:path>
              <a:path w="3300" h="1192">
                <a:moveTo>
                  <a:pt x="10914" y="11137"/>
                </a:moveTo>
                <a:cubicBezTo>
                  <a:pt x="10972" y="11137"/>
                  <a:pt x="11030" y="11137"/>
                  <a:pt x="11088" y="11137"/>
                </a:cubicBezTo>
              </a:path>
              <a:path w="3300" h="1192">
                <a:moveTo>
                  <a:pt x="11261" y="10641"/>
                </a:moveTo>
                <a:cubicBezTo>
                  <a:pt x="11311" y="10641"/>
                  <a:pt x="11360" y="10641"/>
                  <a:pt x="11410" y="10641"/>
                </a:cubicBezTo>
              </a:path>
              <a:path w="3300" h="1192">
                <a:moveTo>
                  <a:pt x="11559" y="10418"/>
                </a:moveTo>
                <a:cubicBezTo>
                  <a:pt x="11568" y="10529"/>
                  <a:pt x="11604" y="10721"/>
                  <a:pt x="11534" y="10790"/>
                </a:cubicBezTo>
              </a:path>
              <a:path w="3300" h="1192">
                <a:moveTo>
                  <a:pt x="11708" y="10468"/>
                </a:moveTo>
                <a:cubicBezTo>
                  <a:pt x="11763" y="10431"/>
                  <a:pt x="11777" y="10424"/>
                  <a:pt x="11832" y="10443"/>
                </a:cubicBezTo>
                <a:cubicBezTo>
                  <a:pt x="11819" y="10573"/>
                  <a:pt x="11763" y="10607"/>
                  <a:pt x="11708" y="10716"/>
                </a:cubicBezTo>
                <a:cubicBezTo>
                  <a:pt x="11676" y="10779"/>
                  <a:pt x="11857" y="10765"/>
                  <a:pt x="11881" y="10765"/>
                </a:cubicBezTo>
              </a:path>
              <a:path w="3300" h="1192">
                <a:moveTo>
                  <a:pt x="12154" y="10443"/>
                </a:moveTo>
                <a:cubicBezTo>
                  <a:pt x="12154" y="10539"/>
                  <a:pt x="12164" y="10635"/>
                  <a:pt x="12129" y="10716"/>
                </a:cubicBezTo>
              </a:path>
              <a:path w="3300" h="1192">
                <a:moveTo>
                  <a:pt x="12030" y="10616"/>
                </a:moveTo>
                <a:cubicBezTo>
                  <a:pt x="12094" y="10616"/>
                  <a:pt x="12141" y="10597"/>
                  <a:pt x="12204" y="10592"/>
                </a:cubicBezTo>
                <a:cubicBezTo>
                  <a:pt x="12212" y="10592"/>
                  <a:pt x="12221" y="10592"/>
                  <a:pt x="12229" y="10592"/>
                </a:cubicBezTo>
              </a:path>
              <a:path w="3300" h="1192">
                <a:moveTo>
                  <a:pt x="12551" y="10443"/>
                </a:moveTo>
                <a:cubicBezTo>
                  <a:pt x="12586" y="10469"/>
                  <a:pt x="12582" y="10468"/>
                  <a:pt x="12626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52960" y="374184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2675" y="10393"/>
                </a:moveTo>
                <a:cubicBezTo>
                  <a:pt x="12729" y="10402"/>
                  <a:pt x="12830" y="10417"/>
                  <a:pt x="12750" y="10492"/>
                </a:cubicBezTo>
                <a:cubicBezTo>
                  <a:pt x="12725" y="10509"/>
                  <a:pt x="12700" y="10525"/>
                  <a:pt x="12675" y="10542"/>
                </a:cubicBezTo>
                <a:cubicBezTo>
                  <a:pt x="12675" y="10550"/>
                  <a:pt x="12675" y="10559"/>
                  <a:pt x="12675" y="10567"/>
                </a:cubicBezTo>
                <a:cubicBezTo>
                  <a:pt x="12767" y="10590"/>
                  <a:pt x="12750" y="10654"/>
                  <a:pt x="12700" y="10716"/>
                </a:cubicBezTo>
                <a:cubicBezTo>
                  <a:pt x="12661" y="10764"/>
                  <a:pt x="12563" y="10798"/>
                  <a:pt x="12626" y="10716"/>
                </a:cubicBezTo>
              </a:path>
              <a:path w="1539" h="944">
                <a:moveTo>
                  <a:pt x="12898" y="10418"/>
                </a:moveTo>
                <a:cubicBezTo>
                  <a:pt x="12898" y="10505"/>
                  <a:pt x="12862" y="10581"/>
                  <a:pt x="12849" y="10666"/>
                </a:cubicBezTo>
                <a:cubicBezTo>
                  <a:pt x="12849" y="10683"/>
                  <a:pt x="12849" y="10699"/>
                  <a:pt x="12849" y="10716"/>
                </a:cubicBezTo>
                <a:cubicBezTo>
                  <a:pt x="12993" y="10736"/>
                  <a:pt x="13001" y="10760"/>
                  <a:pt x="13072" y="10641"/>
                </a:cubicBezTo>
                <a:cubicBezTo>
                  <a:pt x="12952" y="10641"/>
                  <a:pt x="12944" y="10700"/>
                  <a:pt x="12849" y="10740"/>
                </a:cubicBezTo>
                <a:cubicBezTo>
                  <a:pt x="12832" y="10740"/>
                  <a:pt x="12816" y="10740"/>
                  <a:pt x="12799" y="10740"/>
                </a:cubicBezTo>
              </a:path>
              <a:path w="1539" h="944">
                <a:moveTo>
                  <a:pt x="11534" y="10889"/>
                </a:moveTo>
                <a:cubicBezTo>
                  <a:pt x="11815" y="10872"/>
                  <a:pt x="12096" y="10826"/>
                  <a:pt x="12378" y="10815"/>
                </a:cubicBezTo>
                <a:cubicBezTo>
                  <a:pt x="12543" y="10808"/>
                  <a:pt x="12989" y="10815"/>
                  <a:pt x="12824" y="10815"/>
                </a:cubicBezTo>
              </a:path>
              <a:path w="1539" h="944">
                <a:moveTo>
                  <a:pt x="11708" y="11162"/>
                </a:moveTo>
                <a:cubicBezTo>
                  <a:pt x="11724" y="11113"/>
                  <a:pt x="11800" y="11137"/>
                  <a:pt x="11857" y="11137"/>
                </a:cubicBezTo>
              </a:path>
              <a:path w="1539" h="944">
                <a:moveTo>
                  <a:pt x="11931" y="11063"/>
                </a:moveTo>
                <a:cubicBezTo>
                  <a:pt x="11961" y="11173"/>
                  <a:pt x="11898" y="11345"/>
                  <a:pt x="11956" y="11286"/>
                </a:cubicBezTo>
              </a:path>
              <a:path w="1539" h="944">
                <a:moveTo>
                  <a:pt x="12204" y="11088"/>
                </a:moveTo>
                <a:cubicBezTo>
                  <a:pt x="12286" y="11067"/>
                  <a:pt x="12302" y="11059"/>
                  <a:pt x="12353" y="11063"/>
                </a:cubicBezTo>
                <a:cubicBezTo>
                  <a:pt x="12389" y="11171"/>
                  <a:pt x="12284" y="11231"/>
                  <a:pt x="12204" y="11311"/>
                </a:cubicBezTo>
                <a:cubicBezTo>
                  <a:pt x="12196" y="11319"/>
                  <a:pt x="12187" y="11328"/>
                  <a:pt x="12179" y="11336"/>
                </a:cubicBezTo>
                <a:cubicBezTo>
                  <a:pt x="12291" y="11336"/>
                  <a:pt x="12392" y="11319"/>
                  <a:pt x="12502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73280" y="4375080"/>
            <a:ext cx="37656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9996" y="12526"/>
                </a:moveTo>
                <a:cubicBezTo>
                  <a:pt x="9987" y="12589"/>
                  <a:pt x="9970" y="12642"/>
                  <a:pt x="9947" y="12700"/>
                </a:cubicBezTo>
                <a:cubicBezTo>
                  <a:pt x="10024" y="12700"/>
                  <a:pt x="10080" y="12672"/>
                  <a:pt x="10145" y="12650"/>
                </a:cubicBezTo>
                <a:cubicBezTo>
                  <a:pt x="10173" y="12650"/>
                  <a:pt x="10184" y="12648"/>
                  <a:pt x="10195" y="12626"/>
                </a:cubicBezTo>
              </a:path>
              <a:path w="1043" h="944">
                <a:moveTo>
                  <a:pt x="10294" y="12378"/>
                </a:moveTo>
                <a:cubicBezTo>
                  <a:pt x="10220" y="12487"/>
                  <a:pt x="10188" y="12641"/>
                  <a:pt x="10170" y="12774"/>
                </a:cubicBezTo>
                <a:cubicBezTo>
                  <a:pt x="10170" y="12836"/>
                  <a:pt x="10179" y="12851"/>
                  <a:pt x="10145" y="12874"/>
                </a:cubicBezTo>
              </a:path>
              <a:path w="1043" h="944">
                <a:moveTo>
                  <a:pt x="9723" y="12948"/>
                </a:moveTo>
                <a:cubicBezTo>
                  <a:pt x="9820" y="13044"/>
                  <a:pt x="9968" y="13100"/>
                  <a:pt x="10120" y="13097"/>
                </a:cubicBezTo>
                <a:cubicBezTo>
                  <a:pt x="10276" y="13094"/>
                  <a:pt x="10527" y="13010"/>
                  <a:pt x="10616" y="12874"/>
                </a:cubicBezTo>
                <a:cubicBezTo>
                  <a:pt x="10719" y="12717"/>
                  <a:pt x="10723" y="12509"/>
                  <a:pt x="10616" y="12353"/>
                </a:cubicBezTo>
                <a:cubicBezTo>
                  <a:pt x="10541" y="12243"/>
                  <a:pt x="10401" y="12167"/>
                  <a:pt x="10269" y="12154"/>
                </a:cubicBezTo>
                <a:cubicBezTo>
                  <a:pt x="10078" y="12135"/>
                  <a:pt x="9890" y="12224"/>
                  <a:pt x="9773" y="12378"/>
                </a:cubicBezTo>
                <a:cubicBezTo>
                  <a:pt x="9653" y="12535"/>
                  <a:pt x="9588" y="12765"/>
                  <a:pt x="9723" y="12923"/>
                </a:cubicBezTo>
                <a:cubicBezTo>
                  <a:pt x="9808" y="12980"/>
                  <a:pt x="9845" y="12994"/>
                  <a:pt x="992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9160" y="4027320"/>
            <a:ext cx="285840" cy="581040"/>
          </a:xfrm>
          <a:custGeom>
            <a:avLst/>
            <a:gdLst/>
            <a:ahLst/>
            <a:rect l="l" t="t" r="r" b="b"/>
            <a:pathLst>
              <a:path w="795" h="1613">
                <a:moveTo>
                  <a:pt x="8582" y="11237"/>
                </a:moveTo>
                <a:cubicBezTo>
                  <a:pt x="8659" y="11218"/>
                  <a:pt x="8729" y="11206"/>
                  <a:pt x="8806" y="11187"/>
                </a:cubicBezTo>
              </a:path>
              <a:path w="795" h="1613">
                <a:moveTo>
                  <a:pt x="9178" y="12700"/>
                </a:moveTo>
                <a:cubicBezTo>
                  <a:pt x="9226" y="12688"/>
                  <a:pt x="9270" y="12659"/>
                  <a:pt x="9327" y="12650"/>
                </a:cubicBezTo>
              </a:path>
              <a:path w="795" h="1613">
                <a:moveTo>
                  <a:pt x="9203" y="12774"/>
                </a:moveTo>
                <a:cubicBezTo>
                  <a:pt x="9273" y="12810"/>
                  <a:pt x="9295" y="12794"/>
                  <a:pt x="9376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2040" y="4367160"/>
            <a:ext cx="474840" cy="428760"/>
          </a:xfrm>
          <a:custGeom>
            <a:avLst/>
            <a:gdLst/>
            <a:ahLst/>
            <a:rect l="l" t="t" r="r" b="b"/>
            <a:pathLst>
              <a:path w="1316" h="1192">
                <a:moveTo>
                  <a:pt x="7615" y="12576"/>
                </a:moveTo>
                <a:cubicBezTo>
                  <a:pt x="7615" y="12601"/>
                  <a:pt x="7615" y="12609"/>
                  <a:pt x="7590" y="12601"/>
                </a:cubicBezTo>
                <a:cubicBezTo>
                  <a:pt x="7681" y="12601"/>
                  <a:pt x="7772" y="12601"/>
                  <a:pt x="7863" y="12601"/>
                </a:cubicBezTo>
              </a:path>
              <a:path w="1316" h="1192">
                <a:moveTo>
                  <a:pt x="8210" y="12278"/>
                </a:moveTo>
                <a:cubicBezTo>
                  <a:pt x="8203" y="12340"/>
                  <a:pt x="8195" y="12375"/>
                  <a:pt x="8161" y="12427"/>
                </a:cubicBezTo>
                <a:cubicBezTo>
                  <a:pt x="8294" y="12467"/>
                  <a:pt x="8362" y="12443"/>
                  <a:pt x="8483" y="12378"/>
                </a:cubicBezTo>
              </a:path>
              <a:path w="1316" h="1192">
                <a:moveTo>
                  <a:pt x="8434" y="12254"/>
                </a:moveTo>
                <a:cubicBezTo>
                  <a:pt x="8424" y="12278"/>
                  <a:pt x="8298" y="12554"/>
                  <a:pt x="8334" y="12502"/>
                </a:cubicBezTo>
                <a:cubicBezTo>
                  <a:pt x="8359" y="12469"/>
                  <a:pt x="8384" y="12435"/>
                  <a:pt x="8409" y="12402"/>
                </a:cubicBezTo>
              </a:path>
              <a:path w="1316" h="1192">
                <a:moveTo>
                  <a:pt x="8756" y="12129"/>
                </a:moveTo>
                <a:cubicBezTo>
                  <a:pt x="8686" y="12172"/>
                  <a:pt x="8474" y="12251"/>
                  <a:pt x="8582" y="12328"/>
                </a:cubicBezTo>
                <a:cubicBezTo>
                  <a:pt x="8675" y="12375"/>
                  <a:pt x="8704" y="12385"/>
                  <a:pt x="8731" y="12452"/>
                </a:cubicBezTo>
                <a:cubicBezTo>
                  <a:pt x="8731" y="12487"/>
                  <a:pt x="8722" y="12500"/>
                  <a:pt x="8682" y="12502"/>
                </a:cubicBezTo>
                <a:cubicBezTo>
                  <a:pt x="8517" y="12410"/>
                  <a:pt x="8686" y="12361"/>
                  <a:pt x="8781" y="12254"/>
                </a:cubicBezTo>
                <a:cubicBezTo>
                  <a:pt x="8879" y="12144"/>
                  <a:pt x="8806" y="12179"/>
                  <a:pt x="8731" y="12179"/>
                </a:cubicBezTo>
              </a:path>
              <a:path w="1316" h="1192">
                <a:moveTo>
                  <a:pt x="7590" y="12874"/>
                </a:moveTo>
                <a:cubicBezTo>
                  <a:pt x="7862" y="12765"/>
                  <a:pt x="8147" y="12786"/>
                  <a:pt x="8434" y="12750"/>
                </a:cubicBezTo>
                <a:cubicBezTo>
                  <a:pt x="8604" y="12729"/>
                  <a:pt x="8975" y="12558"/>
                  <a:pt x="8880" y="12700"/>
                </a:cubicBezTo>
              </a:path>
              <a:path w="1316" h="1192">
                <a:moveTo>
                  <a:pt x="7789" y="13146"/>
                </a:moveTo>
                <a:cubicBezTo>
                  <a:pt x="7856" y="13135"/>
                  <a:pt x="7920" y="13108"/>
                  <a:pt x="7987" y="13097"/>
                </a:cubicBezTo>
              </a:path>
              <a:path w="1316" h="1192">
                <a:moveTo>
                  <a:pt x="8310" y="12998"/>
                </a:moveTo>
                <a:cubicBezTo>
                  <a:pt x="8296" y="13108"/>
                  <a:pt x="8135" y="13370"/>
                  <a:pt x="8235" y="13320"/>
                </a:cubicBezTo>
                <a:cubicBezTo>
                  <a:pt x="8268" y="13287"/>
                  <a:pt x="8301" y="13254"/>
                  <a:pt x="8334" y="13221"/>
                </a:cubicBezTo>
              </a:path>
              <a:path w="1316" h="1192">
                <a:moveTo>
                  <a:pt x="8533" y="13022"/>
                </a:moveTo>
                <a:cubicBezTo>
                  <a:pt x="8588" y="13009"/>
                  <a:pt x="8583" y="13005"/>
                  <a:pt x="8657" y="12998"/>
                </a:cubicBezTo>
                <a:cubicBezTo>
                  <a:pt x="8628" y="13124"/>
                  <a:pt x="8556" y="13186"/>
                  <a:pt x="8483" y="13295"/>
                </a:cubicBezTo>
                <a:cubicBezTo>
                  <a:pt x="8569" y="13295"/>
                  <a:pt x="8644" y="13275"/>
                  <a:pt x="8731" y="13271"/>
                </a:cubicBezTo>
                <a:cubicBezTo>
                  <a:pt x="8739" y="13271"/>
                  <a:pt x="8748" y="13271"/>
                  <a:pt x="8756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08160" y="4964040"/>
            <a:ext cx="714240" cy="696960"/>
          </a:xfrm>
          <a:custGeom>
            <a:avLst/>
            <a:gdLst/>
            <a:ahLst/>
            <a:rect l="l" t="t" r="r" b="b"/>
            <a:pathLst>
              <a:path w="1985" h="1936">
                <a:moveTo>
                  <a:pt x="6921" y="14263"/>
                </a:moveTo>
                <a:cubicBezTo>
                  <a:pt x="6970" y="14263"/>
                  <a:pt x="7020" y="14263"/>
                  <a:pt x="7069" y="14263"/>
                </a:cubicBezTo>
              </a:path>
              <a:path w="1985" h="1936">
                <a:moveTo>
                  <a:pt x="7268" y="14015"/>
                </a:moveTo>
                <a:cubicBezTo>
                  <a:pt x="7268" y="14127"/>
                  <a:pt x="7263" y="14226"/>
                  <a:pt x="7243" y="14337"/>
                </a:cubicBezTo>
                <a:cubicBezTo>
                  <a:pt x="7224" y="14431"/>
                  <a:pt x="7194" y="14451"/>
                  <a:pt x="7243" y="14486"/>
                </a:cubicBezTo>
                <a:cubicBezTo>
                  <a:pt x="7413" y="14537"/>
                  <a:pt x="7461" y="14475"/>
                  <a:pt x="7516" y="14312"/>
                </a:cubicBezTo>
                <a:cubicBezTo>
                  <a:pt x="7516" y="14284"/>
                  <a:pt x="7513" y="14274"/>
                  <a:pt x="7491" y="14263"/>
                </a:cubicBezTo>
                <a:cubicBezTo>
                  <a:pt x="7459" y="14280"/>
                  <a:pt x="7298" y="14483"/>
                  <a:pt x="7367" y="14461"/>
                </a:cubicBezTo>
                <a:cubicBezTo>
                  <a:pt x="7384" y="14445"/>
                  <a:pt x="7400" y="14428"/>
                  <a:pt x="7417" y="14412"/>
                </a:cubicBezTo>
              </a:path>
              <a:path w="1985" h="1936">
                <a:moveTo>
                  <a:pt x="7491" y="13791"/>
                </a:moveTo>
                <a:cubicBezTo>
                  <a:pt x="7589" y="13878"/>
                  <a:pt x="7768" y="14100"/>
                  <a:pt x="7789" y="14238"/>
                </a:cubicBezTo>
                <a:cubicBezTo>
                  <a:pt x="7805" y="14343"/>
                  <a:pt x="7720" y="14495"/>
                  <a:pt x="7640" y="14536"/>
                </a:cubicBezTo>
              </a:path>
              <a:path w="1985" h="1936">
                <a:moveTo>
                  <a:pt x="5854" y="14883"/>
                </a:moveTo>
                <a:cubicBezTo>
                  <a:pt x="5986" y="14841"/>
                  <a:pt x="6203" y="14821"/>
                  <a:pt x="6375" y="14808"/>
                </a:cubicBezTo>
                <a:cubicBezTo>
                  <a:pt x="6815" y="14776"/>
                  <a:pt x="7253" y="14754"/>
                  <a:pt x="7689" y="14684"/>
                </a:cubicBezTo>
                <a:cubicBezTo>
                  <a:pt x="7754" y="14673"/>
                  <a:pt x="7782" y="14665"/>
                  <a:pt x="7838" y="14660"/>
                </a:cubicBezTo>
              </a:path>
              <a:path w="1985" h="1936">
                <a:moveTo>
                  <a:pt x="6028" y="15379"/>
                </a:moveTo>
                <a:cubicBezTo>
                  <a:pt x="6081" y="15372"/>
                  <a:pt x="6194" y="15326"/>
                  <a:pt x="6251" y="15354"/>
                </a:cubicBezTo>
                <a:cubicBezTo>
                  <a:pt x="6273" y="15376"/>
                  <a:pt x="6278" y="15385"/>
                  <a:pt x="6300" y="15379"/>
                </a:cubicBezTo>
              </a:path>
              <a:path w="1985" h="1936">
                <a:moveTo>
                  <a:pt x="6524" y="15205"/>
                </a:moveTo>
                <a:cubicBezTo>
                  <a:pt x="6524" y="15367"/>
                  <a:pt x="6465" y="15545"/>
                  <a:pt x="6474" y="15701"/>
                </a:cubicBezTo>
                <a:cubicBezTo>
                  <a:pt x="6482" y="15693"/>
                  <a:pt x="6491" y="15685"/>
                  <a:pt x="6499" y="15677"/>
                </a:cubicBezTo>
              </a:path>
              <a:path w="1985" h="1936">
                <a:moveTo>
                  <a:pt x="6747" y="15304"/>
                </a:moveTo>
                <a:cubicBezTo>
                  <a:pt x="6816" y="15246"/>
                  <a:pt x="6825" y="15251"/>
                  <a:pt x="6921" y="15280"/>
                </a:cubicBezTo>
                <a:cubicBezTo>
                  <a:pt x="6932" y="15448"/>
                  <a:pt x="6850" y="15598"/>
                  <a:pt x="6722" y="15726"/>
                </a:cubicBezTo>
                <a:cubicBezTo>
                  <a:pt x="6714" y="15726"/>
                  <a:pt x="6705" y="15726"/>
                  <a:pt x="6697" y="15726"/>
                </a:cubicBezTo>
                <a:cubicBezTo>
                  <a:pt x="6813" y="15715"/>
                  <a:pt x="6911" y="15673"/>
                  <a:pt x="702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73680" y="25988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1038" y="7218"/>
                </a:moveTo>
                <a:cubicBezTo>
                  <a:pt x="11057" y="7318"/>
                  <a:pt x="10939" y="7492"/>
                  <a:pt x="11038" y="7516"/>
                </a:cubicBezTo>
                <a:cubicBezTo>
                  <a:pt x="11046" y="7508"/>
                  <a:pt x="11055" y="7499"/>
                  <a:pt x="11063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71960" y="2517840"/>
            <a:ext cx="160200" cy="152280"/>
          </a:xfrm>
          <a:custGeom>
            <a:avLst/>
            <a:gdLst/>
            <a:ahLst/>
            <a:rect l="l" t="t" r="r" b="b"/>
            <a:pathLst>
              <a:path w="447" h="423">
                <a:moveTo>
                  <a:pt x="11460" y="6995"/>
                </a:moveTo>
                <a:cubicBezTo>
                  <a:pt x="11398" y="7010"/>
                  <a:pt x="11359" y="7071"/>
                  <a:pt x="11311" y="7119"/>
                </a:cubicBezTo>
                <a:cubicBezTo>
                  <a:pt x="11359" y="7179"/>
                  <a:pt x="11457" y="7235"/>
                  <a:pt x="11460" y="7317"/>
                </a:cubicBezTo>
                <a:cubicBezTo>
                  <a:pt x="11440" y="7378"/>
                  <a:pt x="11442" y="7393"/>
                  <a:pt x="11410" y="7417"/>
                </a:cubicBezTo>
                <a:cubicBezTo>
                  <a:pt x="11387" y="7303"/>
                  <a:pt x="11433" y="7233"/>
                  <a:pt x="11460" y="7119"/>
                </a:cubicBezTo>
                <a:cubicBezTo>
                  <a:pt x="11460" y="7094"/>
                  <a:pt x="11460" y="7086"/>
                  <a:pt x="11460" y="7119"/>
                </a:cubicBezTo>
              </a:path>
              <a:path w="447" h="423">
                <a:moveTo>
                  <a:pt x="11683" y="7243"/>
                </a:moveTo>
                <a:cubicBezTo>
                  <a:pt x="11724" y="7243"/>
                  <a:pt x="11732" y="7243"/>
                  <a:pt x="11757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46680" y="2509920"/>
            <a:ext cx="652320" cy="40140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12229" y="7020"/>
                </a:moveTo>
                <a:cubicBezTo>
                  <a:pt x="12245" y="7012"/>
                  <a:pt x="12262" y="7003"/>
                  <a:pt x="12278" y="6995"/>
                </a:cubicBezTo>
                <a:cubicBezTo>
                  <a:pt x="12369" y="7107"/>
                  <a:pt x="12257" y="7218"/>
                  <a:pt x="12154" y="7293"/>
                </a:cubicBezTo>
                <a:cubicBezTo>
                  <a:pt x="12097" y="7311"/>
                  <a:pt x="12072" y="7337"/>
                  <a:pt x="12080" y="7293"/>
                </a:cubicBezTo>
                <a:cubicBezTo>
                  <a:pt x="12099" y="7235"/>
                  <a:pt x="12158" y="7280"/>
                  <a:pt x="12204" y="7293"/>
                </a:cubicBezTo>
                <a:cubicBezTo>
                  <a:pt x="12212" y="7293"/>
                  <a:pt x="12221" y="7293"/>
                  <a:pt x="12229" y="7293"/>
                </a:cubicBezTo>
              </a:path>
              <a:path w="1811" h="1117">
                <a:moveTo>
                  <a:pt x="12402" y="7045"/>
                </a:moveTo>
                <a:cubicBezTo>
                  <a:pt x="12402" y="7111"/>
                  <a:pt x="12402" y="7177"/>
                  <a:pt x="12402" y="7243"/>
                </a:cubicBezTo>
              </a:path>
              <a:path w="1811" h="1117">
                <a:moveTo>
                  <a:pt x="12650" y="6970"/>
                </a:moveTo>
                <a:cubicBezTo>
                  <a:pt x="12643" y="7071"/>
                  <a:pt x="12602" y="7185"/>
                  <a:pt x="12626" y="7268"/>
                </a:cubicBezTo>
                <a:cubicBezTo>
                  <a:pt x="12675" y="7268"/>
                  <a:pt x="12781" y="7281"/>
                  <a:pt x="12774" y="7193"/>
                </a:cubicBezTo>
                <a:cubicBezTo>
                  <a:pt x="12766" y="7185"/>
                  <a:pt x="12758" y="7177"/>
                  <a:pt x="12750" y="7169"/>
                </a:cubicBezTo>
                <a:cubicBezTo>
                  <a:pt x="12697" y="7182"/>
                  <a:pt x="12670" y="7218"/>
                  <a:pt x="12650" y="7268"/>
                </a:cubicBezTo>
              </a:path>
              <a:path w="1811" h="1117">
                <a:moveTo>
                  <a:pt x="10964" y="7615"/>
                </a:moveTo>
                <a:cubicBezTo>
                  <a:pt x="11307" y="7560"/>
                  <a:pt x="11657" y="7550"/>
                  <a:pt x="12005" y="7541"/>
                </a:cubicBezTo>
                <a:cubicBezTo>
                  <a:pt x="12021" y="7541"/>
                  <a:pt x="12515" y="7516"/>
                  <a:pt x="12477" y="7516"/>
                </a:cubicBezTo>
              </a:path>
              <a:path w="1811" h="1117">
                <a:moveTo>
                  <a:pt x="11509" y="7689"/>
                </a:moveTo>
                <a:cubicBezTo>
                  <a:pt x="11490" y="7804"/>
                  <a:pt x="11461" y="7936"/>
                  <a:pt x="11410" y="8037"/>
                </a:cubicBezTo>
              </a:path>
              <a:path w="1811" h="1117">
                <a:moveTo>
                  <a:pt x="11782" y="7689"/>
                </a:moveTo>
                <a:cubicBezTo>
                  <a:pt x="11694" y="7758"/>
                  <a:pt x="11721" y="7726"/>
                  <a:pt x="11683" y="7813"/>
                </a:cubicBezTo>
                <a:cubicBezTo>
                  <a:pt x="11760" y="7891"/>
                  <a:pt x="11909" y="7975"/>
                  <a:pt x="11782" y="8062"/>
                </a:cubicBezTo>
                <a:cubicBezTo>
                  <a:pt x="11766" y="8070"/>
                  <a:pt x="11749" y="8078"/>
                  <a:pt x="11733" y="8086"/>
                </a:cubicBezTo>
                <a:cubicBezTo>
                  <a:pt x="11709" y="7930"/>
                  <a:pt x="11755" y="7864"/>
                  <a:pt x="11857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2960" y="5045040"/>
            <a:ext cx="884160" cy="241200"/>
          </a:xfrm>
          <a:custGeom>
            <a:avLst/>
            <a:gdLst/>
            <a:ahLst/>
            <a:rect l="l" t="t" r="r" b="b"/>
            <a:pathLst>
              <a:path w="2456" h="670">
                <a:moveTo>
                  <a:pt x="8285" y="14684"/>
                </a:moveTo>
                <a:cubicBezTo>
                  <a:pt x="8314" y="14645"/>
                  <a:pt x="8439" y="14582"/>
                  <a:pt x="8508" y="14610"/>
                </a:cubicBezTo>
                <a:cubicBezTo>
                  <a:pt x="8508" y="14618"/>
                  <a:pt x="8508" y="14627"/>
                  <a:pt x="8508" y="14635"/>
                </a:cubicBezTo>
              </a:path>
              <a:path w="2456" h="670">
                <a:moveTo>
                  <a:pt x="9426" y="14015"/>
                </a:moveTo>
                <a:cubicBezTo>
                  <a:pt x="9422" y="14104"/>
                  <a:pt x="9420" y="14472"/>
                  <a:pt x="9376" y="14387"/>
                </a:cubicBezTo>
              </a:path>
              <a:path w="2456" h="670">
                <a:moveTo>
                  <a:pt x="10592" y="14461"/>
                </a:moveTo>
                <a:cubicBezTo>
                  <a:pt x="10643" y="14444"/>
                  <a:pt x="10686" y="14424"/>
                  <a:pt x="10740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7240" y="4938840"/>
            <a:ext cx="1393920" cy="544320"/>
          </a:xfrm>
          <a:custGeom>
            <a:avLst/>
            <a:gdLst/>
            <a:ahLst/>
            <a:rect l="l" t="t" r="r" b="b"/>
            <a:pathLst>
              <a:path w="3870" h="1514">
                <a:moveTo>
                  <a:pt x="8409" y="14808"/>
                </a:moveTo>
                <a:cubicBezTo>
                  <a:pt x="8490" y="14787"/>
                  <a:pt x="8542" y="14762"/>
                  <a:pt x="8607" y="14784"/>
                </a:cubicBezTo>
              </a:path>
              <a:path w="3870" h="1514">
                <a:moveTo>
                  <a:pt x="9004" y="14213"/>
                </a:moveTo>
                <a:cubicBezTo>
                  <a:pt x="9072" y="14203"/>
                  <a:pt x="9134" y="14188"/>
                  <a:pt x="9203" y="14188"/>
                </a:cubicBezTo>
              </a:path>
              <a:path w="3870" h="1514">
                <a:moveTo>
                  <a:pt x="9748" y="13915"/>
                </a:moveTo>
                <a:cubicBezTo>
                  <a:pt x="9708" y="14036"/>
                  <a:pt x="9581" y="14171"/>
                  <a:pt x="9599" y="14312"/>
                </a:cubicBezTo>
                <a:cubicBezTo>
                  <a:pt x="9616" y="14329"/>
                  <a:pt x="9632" y="14345"/>
                  <a:pt x="9649" y="14362"/>
                </a:cubicBezTo>
                <a:cubicBezTo>
                  <a:pt x="9797" y="14253"/>
                  <a:pt x="9959" y="14164"/>
                  <a:pt x="9823" y="13965"/>
                </a:cubicBezTo>
                <a:cubicBezTo>
                  <a:pt x="9815" y="13965"/>
                  <a:pt x="9806" y="13965"/>
                  <a:pt x="9798" y="13965"/>
                </a:cubicBezTo>
              </a:path>
              <a:path w="3870" h="1514">
                <a:moveTo>
                  <a:pt x="10145" y="13816"/>
                </a:moveTo>
                <a:cubicBezTo>
                  <a:pt x="9943" y="13961"/>
                  <a:pt x="10021" y="13919"/>
                  <a:pt x="10145" y="14089"/>
                </a:cubicBezTo>
                <a:cubicBezTo>
                  <a:pt x="10195" y="14188"/>
                  <a:pt x="10212" y="14222"/>
                  <a:pt x="10145" y="14288"/>
                </a:cubicBezTo>
                <a:cubicBezTo>
                  <a:pt x="10112" y="14296"/>
                  <a:pt x="10079" y="14304"/>
                  <a:pt x="10046" y="14312"/>
                </a:cubicBezTo>
                <a:cubicBezTo>
                  <a:pt x="10032" y="14141"/>
                  <a:pt x="10119" y="13975"/>
                  <a:pt x="10244" y="13841"/>
                </a:cubicBezTo>
                <a:cubicBezTo>
                  <a:pt x="10244" y="13849"/>
                  <a:pt x="10244" y="13858"/>
                  <a:pt x="10244" y="13866"/>
                </a:cubicBezTo>
              </a:path>
              <a:path w="3870" h="1514">
                <a:moveTo>
                  <a:pt x="8830" y="14784"/>
                </a:moveTo>
                <a:cubicBezTo>
                  <a:pt x="9061" y="14687"/>
                  <a:pt x="9302" y="14647"/>
                  <a:pt x="9550" y="14610"/>
                </a:cubicBezTo>
                <a:cubicBezTo>
                  <a:pt x="9814" y="14570"/>
                  <a:pt x="10081" y="14547"/>
                  <a:pt x="10344" y="14511"/>
                </a:cubicBezTo>
              </a:path>
              <a:path w="3870" h="1514">
                <a:moveTo>
                  <a:pt x="9029" y="14957"/>
                </a:moveTo>
                <a:cubicBezTo>
                  <a:pt x="9105" y="14944"/>
                  <a:pt x="9175" y="14916"/>
                  <a:pt x="9252" y="14908"/>
                </a:cubicBezTo>
              </a:path>
              <a:path w="3870" h="1514">
                <a:moveTo>
                  <a:pt x="9401" y="14833"/>
                </a:moveTo>
                <a:cubicBezTo>
                  <a:pt x="9392" y="14969"/>
                  <a:pt x="9234" y="15330"/>
                  <a:pt x="9327" y="15230"/>
                </a:cubicBezTo>
                <a:cubicBezTo>
                  <a:pt x="9352" y="15189"/>
                  <a:pt x="9376" y="15147"/>
                  <a:pt x="9401" y="15106"/>
                </a:cubicBezTo>
              </a:path>
              <a:path w="3870" h="1514">
                <a:moveTo>
                  <a:pt x="9699" y="14784"/>
                </a:moveTo>
                <a:cubicBezTo>
                  <a:pt x="9772" y="14759"/>
                  <a:pt x="9795" y="14751"/>
                  <a:pt x="9847" y="14759"/>
                </a:cubicBezTo>
                <a:cubicBezTo>
                  <a:pt x="9902" y="14896"/>
                  <a:pt x="9772" y="15039"/>
                  <a:pt x="9649" y="15156"/>
                </a:cubicBezTo>
                <a:cubicBezTo>
                  <a:pt x="9641" y="15156"/>
                  <a:pt x="9632" y="15156"/>
                  <a:pt x="9624" y="15156"/>
                </a:cubicBezTo>
                <a:cubicBezTo>
                  <a:pt x="9690" y="15150"/>
                  <a:pt x="9869" y="15148"/>
                  <a:pt x="9922" y="15106"/>
                </a:cubicBezTo>
                <a:cubicBezTo>
                  <a:pt x="9930" y="15089"/>
                  <a:pt x="9939" y="15073"/>
                  <a:pt x="9947" y="15056"/>
                </a:cubicBezTo>
              </a:path>
              <a:path w="3870" h="1514">
                <a:moveTo>
                  <a:pt x="10567" y="14610"/>
                </a:moveTo>
                <a:cubicBezTo>
                  <a:pt x="10640" y="14593"/>
                  <a:pt x="10688" y="14585"/>
                  <a:pt x="10765" y="14585"/>
                </a:cubicBezTo>
              </a:path>
              <a:path w="3870" h="1514">
                <a:moveTo>
                  <a:pt x="11733" y="14362"/>
                </a:moveTo>
                <a:cubicBezTo>
                  <a:pt x="11798" y="14312"/>
                  <a:pt x="11771" y="14295"/>
                  <a:pt x="11757" y="14213"/>
                </a:cubicBezTo>
                <a:cubicBezTo>
                  <a:pt x="11606" y="14162"/>
                  <a:pt x="11532" y="14230"/>
                  <a:pt x="11485" y="14387"/>
                </a:cubicBezTo>
                <a:cubicBezTo>
                  <a:pt x="11434" y="14557"/>
                  <a:pt x="11651" y="14457"/>
                  <a:pt x="11708" y="14412"/>
                </a:cubicBezTo>
                <a:cubicBezTo>
                  <a:pt x="11733" y="14387"/>
                  <a:pt x="11757" y="14362"/>
                  <a:pt x="11782" y="14337"/>
                </a:cubicBezTo>
                <a:cubicBezTo>
                  <a:pt x="11782" y="14321"/>
                  <a:pt x="11782" y="14304"/>
                  <a:pt x="11782" y="14288"/>
                </a:cubicBezTo>
                <a:cubicBezTo>
                  <a:pt x="11782" y="14451"/>
                  <a:pt x="11679" y="14584"/>
                  <a:pt x="11633" y="14734"/>
                </a:cubicBezTo>
                <a:cubicBezTo>
                  <a:pt x="11615" y="14825"/>
                  <a:pt x="11607" y="14832"/>
                  <a:pt x="11609" y="14883"/>
                </a:cubicBezTo>
              </a:path>
              <a:path w="3870" h="1514">
                <a:moveTo>
                  <a:pt x="11212" y="14833"/>
                </a:moveTo>
                <a:cubicBezTo>
                  <a:pt x="11236" y="14905"/>
                  <a:pt x="11281" y="14990"/>
                  <a:pt x="11361" y="15032"/>
                </a:cubicBezTo>
                <a:cubicBezTo>
                  <a:pt x="11517" y="15114"/>
                  <a:pt x="11807" y="15001"/>
                  <a:pt x="11931" y="14908"/>
                </a:cubicBezTo>
                <a:cubicBezTo>
                  <a:pt x="12100" y="14781"/>
                  <a:pt x="12242" y="14572"/>
                  <a:pt x="12278" y="14362"/>
                </a:cubicBezTo>
                <a:cubicBezTo>
                  <a:pt x="12302" y="14223"/>
                  <a:pt x="12240" y="14068"/>
                  <a:pt x="12154" y="13965"/>
                </a:cubicBezTo>
                <a:cubicBezTo>
                  <a:pt x="12036" y="13823"/>
                  <a:pt x="11891" y="13740"/>
                  <a:pt x="11708" y="13717"/>
                </a:cubicBezTo>
                <a:cubicBezTo>
                  <a:pt x="11552" y="13697"/>
                  <a:pt x="11358" y="13797"/>
                  <a:pt x="11261" y="13915"/>
                </a:cubicBezTo>
                <a:cubicBezTo>
                  <a:pt x="11134" y="14069"/>
                  <a:pt x="11066" y="14391"/>
                  <a:pt x="11112" y="14585"/>
                </a:cubicBezTo>
                <a:cubicBezTo>
                  <a:pt x="11145" y="14721"/>
                  <a:pt x="11241" y="14855"/>
                  <a:pt x="11361" y="14908"/>
                </a:cubicBezTo>
                <a:cubicBezTo>
                  <a:pt x="11385" y="14908"/>
                  <a:pt x="11394" y="14908"/>
                  <a:pt x="11410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69080" y="2571840"/>
            <a:ext cx="1589040" cy="590400"/>
          </a:xfrm>
          <a:custGeom>
            <a:avLst/>
            <a:gdLst/>
            <a:ahLst/>
            <a:rect l="l" t="t" r="r" b="b"/>
            <a:pathLst>
              <a:path w="4416" h="1638">
                <a:moveTo>
                  <a:pt x="18802" y="8781"/>
                </a:moveTo>
                <a:cubicBezTo>
                  <a:pt x="18869" y="8760"/>
                  <a:pt x="18931" y="8741"/>
                  <a:pt x="19000" y="8731"/>
                </a:cubicBezTo>
              </a:path>
              <a:path w="4416" h="1638">
                <a:moveTo>
                  <a:pt x="20017" y="8111"/>
                </a:moveTo>
                <a:cubicBezTo>
                  <a:pt x="20096" y="8103"/>
                  <a:pt x="20165" y="8085"/>
                  <a:pt x="20241" y="8062"/>
                </a:cubicBezTo>
              </a:path>
              <a:path w="4416" h="1638">
                <a:moveTo>
                  <a:pt x="20985" y="7144"/>
                </a:moveTo>
                <a:cubicBezTo>
                  <a:pt x="20966" y="7333"/>
                  <a:pt x="20918" y="7507"/>
                  <a:pt x="20861" y="7689"/>
                </a:cubicBezTo>
              </a:path>
              <a:path w="4416" h="1638">
                <a:moveTo>
                  <a:pt x="20588" y="7938"/>
                </a:moveTo>
                <a:cubicBezTo>
                  <a:pt x="20794" y="7915"/>
                  <a:pt x="21000" y="7844"/>
                  <a:pt x="21208" y="7813"/>
                </a:cubicBezTo>
                <a:cubicBezTo>
                  <a:pt x="21382" y="7794"/>
                  <a:pt x="21406" y="7786"/>
                  <a:pt x="21506" y="7789"/>
                </a:cubicBezTo>
              </a:path>
              <a:path w="4416" h="1638">
                <a:moveTo>
                  <a:pt x="20960" y="8235"/>
                </a:moveTo>
                <a:cubicBezTo>
                  <a:pt x="20941" y="8386"/>
                  <a:pt x="20889" y="8525"/>
                  <a:pt x="20811" y="8657"/>
                </a:cubicBezTo>
                <a:cubicBezTo>
                  <a:pt x="20776" y="8692"/>
                  <a:pt x="20772" y="8687"/>
                  <a:pt x="20811" y="8607"/>
                </a:cubicBezTo>
              </a:path>
              <a:path w="4416" h="1638">
                <a:moveTo>
                  <a:pt x="21803" y="8037"/>
                </a:moveTo>
                <a:cubicBezTo>
                  <a:pt x="21896" y="8024"/>
                  <a:pt x="21986" y="8010"/>
                  <a:pt x="22076" y="7987"/>
                </a:cubicBezTo>
              </a:path>
              <a:path w="4416" h="1638">
                <a:moveTo>
                  <a:pt x="22771" y="7764"/>
                </a:moveTo>
                <a:cubicBezTo>
                  <a:pt x="22861" y="7741"/>
                  <a:pt x="22885" y="7733"/>
                  <a:pt x="22944" y="7739"/>
                </a:cubicBezTo>
              </a:path>
              <a:path w="4416" h="1638">
                <a:moveTo>
                  <a:pt x="23217" y="7565"/>
                </a:moveTo>
                <a:cubicBezTo>
                  <a:pt x="23190" y="7743"/>
                  <a:pt x="23136" y="7918"/>
                  <a:pt x="23068" y="8086"/>
                </a:cubicBezTo>
                <a:cubicBezTo>
                  <a:pt x="23060" y="8103"/>
                  <a:pt x="23052" y="8119"/>
                  <a:pt x="2304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4960" y="2544840"/>
            <a:ext cx="2197080" cy="706320"/>
          </a:xfrm>
          <a:custGeom>
            <a:avLst/>
            <a:gdLst/>
            <a:ahLst/>
            <a:rect l="l" t="t" r="r" b="b"/>
            <a:pathLst>
              <a:path w="6103" h="1961">
                <a:moveTo>
                  <a:pt x="18355" y="7516"/>
                </a:moveTo>
                <a:cubicBezTo>
                  <a:pt x="18355" y="7508"/>
                  <a:pt x="18355" y="7499"/>
                  <a:pt x="18355" y="7491"/>
                </a:cubicBezTo>
                <a:cubicBezTo>
                  <a:pt x="18396" y="7614"/>
                  <a:pt x="18361" y="7758"/>
                  <a:pt x="18331" y="7913"/>
                </a:cubicBezTo>
                <a:cubicBezTo>
                  <a:pt x="18314" y="8000"/>
                  <a:pt x="18298" y="8117"/>
                  <a:pt x="18256" y="8012"/>
                </a:cubicBezTo>
              </a:path>
              <a:path w="6103" h="1961">
                <a:moveTo>
                  <a:pt x="18802" y="7342"/>
                </a:moveTo>
                <a:cubicBezTo>
                  <a:pt x="18740" y="7365"/>
                  <a:pt x="18703" y="7377"/>
                  <a:pt x="18653" y="7417"/>
                </a:cubicBezTo>
                <a:cubicBezTo>
                  <a:pt x="18675" y="7550"/>
                  <a:pt x="18785" y="7602"/>
                  <a:pt x="18777" y="7739"/>
                </a:cubicBezTo>
                <a:cubicBezTo>
                  <a:pt x="18753" y="7834"/>
                  <a:pt x="18748" y="7864"/>
                  <a:pt x="18678" y="7888"/>
                </a:cubicBezTo>
                <a:cubicBezTo>
                  <a:pt x="18565" y="7850"/>
                  <a:pt x="18676" y="7729"/>
                  <a:pt x="18728" y="7640"/>
                </a:cubicBezTo>
                <a:cubicBezTo>
                  <a:pt x="18729" y="7639"/>
                  <a:pt x="18877" y="7317"/>
                  <a:pt x="18827" y="7367"/>
                </a:cubicBezTo>
                <a:cubicBezTo>
                  <a:pt x="18827" y="7375"/>
                  <a:pt x="18827" y="7384"/>
                  <a:pt x="18827" y="7392"/>
                </a:cubicBezTo>
              </a:path>
              <a:path w="6103" h="1961">
                <a:moveTo>
                  <a:pt x="17909" y="8186"/>
                </a:moveTo>
                <a:cubicBezTo>
                  <a:pt x="17935" y="8107"/>
                  <a:pt x="18202" y="8072"/>
                  <a:pt x="18256" y="8062"/>
                </a:cubicBezTo>
                <a:cubicBezTo>
                  <a:pt x="18569" y="8006"/>
                  <a:pt x="18890" y="7981"/>
                  <a:pt x="19199" y="7913"/>
                </a:cubicBezTo>
              </a:path>
              <a:path w="6103" h="1961">
                <a:moveTo>
                  <a:pt x="17735" y="8706"/>
                </a:moveTo>
                <a:cubicBezTo>
                  <a:pt x="17810" y="8706"/>
                  <a:pt x="17881" y="8686"/>
                  <a:pt x="17934" y="8706"/>
                </a:cubicBezTo>
              </a:path>
              <a:path w="6103" h="1961">
                <a:moveTo>
                  <a:pt x="18182" y="8483"/>
                </a:moveTo>
                <a:cubicBezTo>
                  <a:pt x="18169" y="8673"/>
                  <a:pt x="17986" y="9205"/>
                  <a:pt x="18058" y="9029"/>
                </a:cubicBezTo>
                <a:cubicBezTo>
                  <a:pt x="18074" y="8996"/>
                  <a:pt x="18091" y="8963"/>
                  <a:pt x="18107" y="8930"/>
                </a:cubicBezTo>
              </a:path>
              <a:path w="6103" h="1961">
                <a:moveTo>
                  <a:pt x="18380" y="8533"/>
                </a:moveTo>
                <a:cubicBezTo>
                  <a:pt x="18518" y="8487"/>
                  <a:pt x="18620" y="8518"/>
                  <a:pt x="18579" y="8706"/>
                </a:cubicBezTo>
                <a:cubicBezTo>
                  <a:pt x="18539" y="8888"/>
                  <a:pt x="18418" y="9036"/>
                  <a:pt x="18256" y="8930"/>
                </a:cubicBezTo>
                <a:cubicBezTo>
                  <a:pt x="18297" y="8848"/>
                  <a:pt x="18392" y="8862"/>
                  <a:pt x="18455" y="8930"/>
                </a:cubicBezTo>
                <a:cubicBezTo>
                  <a:pt x="18485" y="8962"/>
                  <a:pt x="18479" y="8992"/>
                  <a:pt x="18479" y="9029"/>
                </a:cubicBezTo>
              </a:path>
              <a:path w="6103" h="1961">
                <a:moveTo>
                  <a:pt x="18901" y="8533"/>
                </a:moveTo>
                <a:cubicBezTo>
                  <a:pt x="18901" y="8652"/>
                  <a:pt x="18906" y="8763"/>
                  <a:pt x="18876" y="8880"/>
                </a:cubicBezTo>
                <a:cubicBezTo>
                  <a:pt x="18868" y="8897"/>
                  <a:pt x="18860" y="8913"/>
                  <a:pt x="18852" y="8930"/>
                </a:cubicBezTo>
              </a:path>
              <a:path w="6103" h="1961">
                <a:moveTo>
                  <a:pt x="19298" y="8483"/>
                </a:moveTo>
                <a:cubicBezTo>
                  <a:pt x="19356" y="8483"/>
                  <a:pt x="19414" y="8483"/>
                  <a:pt x="19472" y="8483"/>
                </a:cubicBezTo>
              </a:path>
              <a:path w="6103" h="1961">
                <a:moveTo>
                  <a:pt x="19670" y="8359"/>
                </a:moveTo>
                <a:cubicBezTo>
                  <a:pt x="19627" y="8566"/>
                  <a:pt x="19552" y="8738"/>
                  <a:pt x="19472" y="8930"/>
                </a:cubicBezTo>
                <a:cubicBezTo>
                  <a:pt x="19464" y="8946"/>
                  <a:pt x="19455" y="8963"/>
                  <a:pt x="19447" y="8979"/>
                </a:cubicBezTo>
                <a:cubicBezTo>
                  <a:pt x="19610" y="9004"/>
                  <a:pt x="19720" y="8955"/>
                  <a:pt x="19819" y="8806"/>
                </a:cubicBezTo>
                <a:cubicBezTo>
                  <a:pt x="19819" y="8781"/>
                  <a:pt x="19819" y="8773"/>
                  <a:pt x="19794" y="8781"/>
                </a:cubicBezTo>
                <a:cubicBezTo>
                  <a:pt x="19710" y="8827"/>
                  <a:pt x="19694" y="8843"/>
                  <a:pt x="19645" y="8930"/>
                </a:cubicBezTo>
              </a:path>
              <a:path w="6103" h="1961">
                <a:moveTo>
                  <a:pt x="20042" y="7962"/>
                </a:moveTo>
                <a:cubicBezTo>
                  <a:pt x="20056" y="7922"/>
                  <a:pt x="20138" y="7867"/>
                  <a:pt x="20191" y="7913"/>
                </a:cubicBezTo>
                <a:cubicBezTo>
                  <a:pt x="20191" y="7921"/>
                  <a:pt x="20191" y="7930"/>
                  <a:pt x="20191" y="7938"/>
                </a:cubicBezTo>
              </a:path>
              <a:path w="6103" h="1961">
                <a:moveTo>
                  <a:pt x="21406" y="7069"/>
                </a:moveTo>
                <a:cubicBezTo>
                  <a:pt x="21296" y="7113"/>
                  <a:pt x="21267" y="7122"/>
                  <a:pt x="21208" y="7169"/>
                </a:cubicBezTo>
                <a:cubicBezTo>
                  <a:pt x="21228" y="7265"/>
                  <a:pt x="21371" y="7356"/>
                  <a:pt x="21332" y="7466"/>
                </a:cubicBezTo>
                <a:cubicBezTo>
                  <a:pt x="21237" y="7561"/>
                  <a:pt x="21208" y="7591"/>
                  <a:pt x="21134" y="7640"/>
                </a:cubicBezTo>
                <a:cubicBezTo>
                  <a:pt x="21098" y="7441"/>
                  <a:pt x="21221" y="7359"/>
                  <a:pt x="21357" y="7218"/>
                </a:cubicBezTo>
                <a:cubicBezTo>
                  <a:pt x="21398" y="7177"/>
                  <a:pt x="21422" y="7169"/>
                  <a:pt x="21382" y="7144"/>
                </a:cubicBezTo>
              </a:path>
              <a:path w="6103" h="1961">
                <a:moveTo>
                  <a:pt x="20414" y="8384"/>
                </a:moveTo>
                <a:cubicBezTo>
                  <a:pt x="20477" y="8384"/>
                  <a:pt x="20528" y="8369"/>
                  <a:pt x="20588" y="8359"/>
                </a:cubicBezTo>
                <a:cubicBezTo>
                  <a:pt x="20588" y="8384"/>
                  <a:pt x="20588" y="8392"/>
                  <a:pt x="20613" y="8384"/>
                </a:cubicBezTo>
              </a:path>
              <a:path w="6103" h="1961">
                <a:moveTo>
                  <a:pt x="21307" y="8111"/>
                </a:moveTo>
                <a:cubicBezTo>
                  <a:pt x="21248" y="8131"/>
                  <a:pt x="21102" y="8207"/>
                  <a:pt x="21158" y="8310"/>
                </a:cubicBezTo>
                <a:cubicBezTo>
                  <a:pt x="21213" y="8411"/>
                  <a:pt x="21420" y="8549"/>
                  <a:pt x="21183" y="8632"/>
                </a:cubicBezTo>
                <a:cubicBezTo>
                  <a:pt x="21142" y="8632"/>
                  <a:pt x="21100" y="8632"/>
                  <a:pt x="21059" y="8632"/>
                </a:cubicBezTo>
                <a:cubicBezTo>
                  <a:pt x="21041" y="8456"/>
                  <a:pt x="21198" y="8395"/>
                  <a:pt x="21307" y="8260"/>
                </a:cubicBezTo>
                <a:cubicBezTo>
                  <a:pt x="21337" y="8224"/>
                  <a:pt x="21332" y="8201"/>
                  <a:pt x="21332" y="8161"/>
                </a:cubicBezTo>
              </a:path>
              <a:path w="6103" h="1961">
                <a:moveTo>
                  <a:pt x="21828" y="7888"/>
                </a:moveTo>
                <a:cubicBezTo>
                  <a:pt x="21843" y="7885"/>
                  <a:pt x="21997" y="7830"/>
                  <a:pt x="22002" y="7838"/>
                </a:cubicBezTo>
                <a:cubicBezTo>
                  <a:pt x="22002" y="7855"/>
                  <a:pt x="22002" y="7871"/>
                  <a:pt x="22002" y="7888"/>
                </a:cubicBezTo>
              </a:path>
              <a:path w="6103" h="1961">
                <a:moveTo>
                  <a:pt x="22324" y="8037"/>
                </a:moveTo>
                <a:cubicBezTo>
                  <a:pt x="22435" y="8116"/>
                  <a:pt x="22549" y="8200"/>
                  <a:pt x="22696" y="8235"/>
                </a:cubicBezTo>
                <a:cubicBezTo>
                  <a:pt x="22925" y="8290"/>
                  <a:pt x="23233" y="8249"/>
                  <a:pt x="23440" y="8136"/>
                </a:cubicBezTo>
                <a:cubicBezTo>
                  <a:pt x="23614" y="8041"/>
                  <a:pt x="23832" y="7886"/>
                  <a:pt x="23837" y="7665"/>
                </a:cubicBezTo>
                <a:cubicBezTo>
                  <a:pt x="23841" y="7467"/>
                  <a:pt x="23669" y="7270"/>
                  <a:pt x="23515" y="7169"/>
                </a:cubicBezTo>
                <a:cubicBezTo>
                  <a:pt x="23316" y="7039"/>
                  <a:pt x="23036" y="7030"/>
                  <a:pt x="22820" y="7119"/>
                </a:cubicBezTo>
                <a:cubicBezTo>
                  <a:pt x="22602" y="7208"/>
                  <a:pt x="22452" y="7392"/>
                  <a:pt x="22399" y="7615"/>
                </a:cubicBezTo>
                <a:cubicBezTo>
                  <a:pt x="22344" y="7846"/>
                  <a:pt x="22383" y="7984"/>
                  <a:pt x="2254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29680" y="4197240"/>
            <a:ext cx="803160" cy="366840"/>
          </a:xfrm>
          <a:custGeom>
            <a:avLst/>
            <a:gdLst/>
            <a:ahLst/>
            <a:rect l="l" t="t" r="r" b="b"/>
            <a:pathLst>
              <a:path w="2233" h="1018">
                <a:moveTo>
                  <a:pt x="20638" y="12675"/>
                </a:moveTo>
                <a:cubicBezTo>
                  <a:pt x="20711" y="12656"/>
                  <a:pt x="20743" y="12632"/>
                  <a:pt x="20786" y="12675"/>
                </a:cubicBezTo>
              </a:path>
              <a:path w="2233" h="1018">
                <a:moveTo>
                  <a:pt x="22870" y="11658"/>
                </a:moveTo>
                <a:cubicBezTo>
                  <a:pt x="22851" y="11810"/>
                  <a:pt x="22809" y="11940"/>
                  <a:pt x="22746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19880" y="4187880"/>
            <a:ext cx="2644920" cy="625320"/>
          </a:xfrm>
          <a:custGeom>
            <a:avLst/>
            <a:gdLst/>
            <a:ahLst/>
            <a:rect l="l" t="t" r="r" b="b"/>
            <a:pathLst>
              <a:path w="7343" h="1738">
                <a:moveTo>
                  <a:pt x="18058" y="12005"/>
                </a:moveTo>
                <a:cubicBezTo>
                  <a:pt x="18058" y="11878"/>
                  <a:pt x="18018" y="12206"/>
                  <a:pt x="17983" y="12328"/>
                </a:cubicBezTo>
                <a:cubicBezTo>
                  <a:pt x="17957" y="12419"/>
                  <a:pt x="17934" y="12494"/>
                  <a:pt x="17959" y="12402"/>
                </a:cubicBezTo>
              </a:path>
              <a:path w="7343" h="1738">
                <a:moveTo>
                  <a:pt x="18355" y="12005"/>
                </a:moveTo>
                <a:cubicBezTo>
                  <a:pt x="18317" y="12015"/>
                  <a:pt x="18245" y="12052"/>
                  <a:pt x="18256" y="12105"/>
                </a:cubicBezTo>
                <a:cubicBezTo>
                  <a:pt x="18277" y="12210"/>
                  <a:pt x="18423" y="12242"/>
                  <a:pt x="18355" y="12353"/>
                </a:cubicBezTo>
                <a:cubicBezTo>
                  <a:pt x="18294" y="12414"/>
                  <a:pt x="18287" y="12439"/>
                  <a:pt x="18231" y="12427"/>
                </a:cubicBezTo>
                <a:cubicBezTo>
                  <a:pt x="18199" y="12281"/>
                  <a:pt x="18303" y="12211"/>
                  <a:pt x="18405" y="12105"/>
                </a:cubicBezTo>
                <a:cubicBezTo>
                  <a:pt x="18492" y="12014"/>
                  <a:pt x="18448" y="12067"/>
                  <a:pt x="18455" y="12030"/>
                </a:cubicBezTo>
                <a:cubicBezTo>
                  <a:pt x="18463" y="12014"/>
                  <a:pt x="18471" y="11997"/>
                  <a:pt x="18479" y="11981"/>
                </a:cubicBezTo>
              </a:path>
              <a:path w="7343" h="1738">
                <a:moveTo>
                  <a:pt x="18728" y="11757"/>
                </a:moveTo>
                <a:cubicBezTo>
                  <a:pt x="18769" y="11676"/>
                  <a:pt x="18848" y="11709"/>
                  <a:pt x="18926" y="11733"/>
                </a:cubicBezTo>
                <a:cubicBezTo>
                  <a:pt x="18912" y="11843"/>
                  <a:pt x="18894" y="12026"/>
                  <a:pt x="18728" y="12005"/>
                </a:cubicBezTo>
                <a:cubicBezTo>
                  <a:pt x="18720" y="11997"/>
                  <a:pt x="18711" y="11989"/>
                  <a:pt x="18703" y="11981"/>
                </a:cubicBezTo>
                <a:cubicBezTo>
                  <a:pt x="18741" y="11950"/>
                  <a:pt x="18787" y="11899"/>
                  <a:pt x="18827" y="11956"/>
                </a:cubicBezTo>
                <a:cubicBezTo>
                  <a:pt x="18860" y="12003"/>
                  <a:pt x="18865" y="11995"/>
                  <a:pt x="18876" y="12030"/>
                </a:cubicBezTo>
              </a:path>
              <a:path w="7343" h="1738">
                <a:moveTo>
                  <a:pt x="19224" y="12129"/>
                </a:moveTo>
                <a:cubicBezTo>
                  <a:pt x="19224" y="12213"/>
                  <a:pt x="19214" y="12328"/>
                  <a:pt x="19174" y="12402"/>
                </a:cubicBezTo>
                <a:cubicBezTo>
                  <a:pt x="19166" y="12402"/>
                  <a:pt x="19157" y="12402"/>
                  <a:pt x="19149" y="12402"/>
                </a:cubicBezTo>
              </a:path>
              <a:path w="7343" h="1738">
                <a:moveTo>
                  <a:pt x="19075" y="12254"/>
                </a:moveTo>
                <a:cubicBezTo>
                  <a:pt x="19158" y="12238"/>
                  <a:pt x="19213" y="12229"/>
                  <a:pt x="19298" y="12229"/>
                </a:cubicBezTo>
              </a:path>
              <a:path w="7343" h="1738">
                <a:moveTo>
                  <a:pt x="19596" y="12154"/>
                </a:moveTo>
                <a:cubicBezTo>
                  <a:pt x="19674" y="12143"/>
                  <a:pt x="19735" y="12106"/>
                  <a:pt x="19794" y="12129"/>
                </a:cubicBezTo>
              </a:path>
              <a:path w="7343" h="1738">
                <a:moveTo>
                  <a:pt x="20017" y="11881"/>
                </a:moveTo>
                <a:cubicBezTo>
                  <a:pt x="19991" y="12041"/>
                  <a:pt x="19933" y="12201"/>
                  <a:pt x="19869" y="12353"/>
                </a:cubicBezTo>
                <a:cubicBezTo>
                  <a:pt x="19841" y="12408"/>
                  <a:pt x="19833" y="12418"/>
                  <a:pt x="19844" y="12328"/>
                </a:cubicBezTo>
              </a:path>
              <a:path w="7343" h="1738">
                <a:moveTo>
                  <a:pt x="20216" y="11906"/>
                </a:moveTo>
                <a:cubicBezTo>
                  <a:pt x="20263" y="11887"/>
                  <a:pt x="20288" y="11870"/>
                  <a:pt x="20340" y="11857"/>
                </a:cubicBezTo>
                <a:cubicBezTo>
                  <a:pt x="20421" y="12006"/>
                  <a:pt x="20382" y="12198"/>
                  <a:pt x="20191" y="12278"/>
                </a:cubicBezTo>
                <a:cubicBezTo>
                  <a:pt x="20090" y="12278"/>
                  <a:pt x="20059" y="12298"/>
                  <a:pt x="20042" y="12229"/>
                </a:cubicBezTo>
                <a:cubicBezTo>
                  <a:pt x="20116" y="12143"/>
                  <a:pt x="20206" y="12121"/>
                  <a:pt x="20265" y="12254"/>
                </a:cubicBezTo>
                <a:cubicBezTo>
                  <a:pt x="20265" y="12305"/>
                  <a:pt x="20263" y="12322"/>
                  <a:pt x="20216" y="12328"/>
                </a:cubicBezTo>
              </a:path>
              <a:path w="7343" h="1738">
                <a:moveTo>
                  <a:pt x="17835" y="12725"/>
                </a:moveTo>
                <a:cubicBezTo>
                  <a:pt x="18196" y="12652"/>
                  <a:pt x="18560" y="12657"/>
                  <a:pt x="18926" y="12626"/>
                </a:cubicBezTo>
                <a:cubicBezTo>
                  <a:pt x="19356" y="12590"/>
                  <a:pt x="19784" y="12514"/>
                  <a:pt x="20216" y="12502"/>
                </a:cubicBezTo>
                <a:cubicBezTo>
                  <a:pt x="20241" y="12502"/>
                  <a:pt x="20249" y="12502"/>
                  <a:pt x="20265" y="12502"/>
                </a:cubicBezTo>
              </a:path>
              <a:path w="7343" h="1738">
                <a:moveTo>
                  <a:pt x="18380" y="13047"/>
                </a:moveTo>
                <a:cubicBezTo>
                  <a:pt x="18337" y="13047"/>
                  <a:pt x="18577" y="13047"/>
                  <a:pt x="18628" y="13047"/>
                </a:cubicBezTo>
                <a:cubicBezTo>
                  <a:pt x="18653" y="13047"/>
                  <a:pt x="18661" y="13047"/>
                  <a:pt x="18678" y="13047"/>
                </a:cubicBezTo>
              </a:path>
              <a:path w="7343" h="1738">
                <a:moveTo>
                  <a:pt x="18926" y="12923"/>
                </a:moveTo>
                <a:cubicBezTo>
                  <a:pt x="18954" y="12978"/>
                  <a:pt x="18853" y="13095"/>
                  <a:pt x="18827" y="13171"/>
                </a:cubicBezTo>
                <a:cubicBezTo>
                  <a:pt x="18806" y="13255"/>
                  <a:pt x="18790" y="13275"/>
                  <a:pt x="18827" y="13320"/>
                </a:cubicBezTo>
                <a:cubicBezTo>
                  <a:pt x="18968" y="13380"/>
                  <a:pt x="19094" y="13359"/>
                  <a:pt x="19199" y="13221"/>
                </a:cubicBezTo>
                <a:cubicBezTo>
                  <a:pt x="19207" y="13204"/>
                  <a:pt x="19216" y="13188"/>
                  <a:pt x="19224" y="13171"/>
                </a:cubicBezTo>
                <a:cubicBezTo>
                  <a:pt x="19111" y="13171"/>
                  <a:pt x="19068" y="13176"/>
                  <a:pt x="19025" y="13295"/>
                </a:cubicBezTo>
                <a:cubicBezTo>
                  <a:pt x="19025" y="13303"/>
                  <a:pt x="19025" y="13312"/>
                  <a:pt x="19025" y="13320"/>
                </a:cubicBezTo>
              </a:path>
              <a:path w="7343" h="1738">
                <a:moveTo>
                  <a:pt x="20588" y="12551"/>
                </a:moveTo>
                <a:cubicBezTo>
                  <a:pt x="20626" y="12528"/>
                  <a:pt x="20744" y="12478"/>
                  <a:pt x="20786" y="12502"/>
                </a:cubicBezTo>
                <a:cubicBezTo>
                  <a:pt x="20786" y="12510"/>
                  <a:pt x="20786" y="12518"/>
                  <a:pt x="20786" y="12526"/>
                </a:cubicBezTo>
              </a:path>
              <a:path w="7343" h="1738">
                <a:moveTo>
                  <a:pt x="21084" y="11832"/>
                </a:moveTo>
                <a:cubicBezTo>
                  <a:pt x="21129" y="11823"/>
                  <a:pt x="21165" y="11804"/>
                  <a:pt x="21208" y="11782"/>
                </a:cubicBezTo>
                <a:cubicBezTo>
                  <a:pt x="21179" y="11883"/>
                  <a:pt x="21095" y="11933"/>
                  <a:pt x="21059" y="12005"/>
                </a:cubicBezTo>
                <a:cubicBezTo>
                  <a:pt x="21067" y="12005"/>
                  <a:pt x="21076" y="12005"/>
                  <a:pt x="21084" y="12005"/>
                </a:cubicBezTo>
                <a:cubicBezTo>
                  <a:pt x="21241" y="11990"/>
                  <a:pt x="21210" y="12125"/>
                  <a:pt x="21084" y="12204"/>
                </a:cubicBezTo>
                <a:cubicBezTo>
                  <a:pt x="20947" y="12290"/>
                  <a:pt x="20837" y="12270"/>
                  <a:pt x="21010" y="12154"/>
                </a:cubicBezTo>
              </a:path>
              <a:path w="7343" h="1738">
                <a:moveTo>
                  <a:pt x="21406" y="11881"/>
                </a:moveTo>
                <a:cubicBezTo>
                  <a:pt x="21505" y="11844"/>
                  <a:pt x="21703" y="11836"/>
                  <a:pt x="21630" y="12030"/>
                </a:cubicBezTo>
                <a:cubicBezTo>
                  <a:pt x="21582" y="12158"/>
                  <a:pt x="21467" y="12180"/>
                  <a:pt x="21357" y="12204"/>
                </a:cubicBezTo>
                <a:cubicBezTo>
                  <a:pt x="21346" y="12096"/>
                  <a:pt x="21402" y="12053"/>
                  <a:pt x="21530" y="12105"/>
                </a:cubicBezTo>
                <a:cubicBezTo>
                  <a:pt x="21593" y="12130"/>
                  <a:pt x="21515" y="12173"/>
                  <a:pt x="21580" y="12129"/>
                </a:cubicBezTo>
              </a:path>
              <a:path w="7343" h="1738">
                <a:moveTo>
                  <a:pt x="21729" y="11832"/>
                </a:moveTo>
                <a:cubicBezTo>
                  <a:pt x="21729" y="11915"/>
                  <a:pt x="21697" y="11959"/>
                  <a:pt x="21803" y="11981"/>
                </a:cubicBezTo>
                <a:cubicBezTo>
                  <a:pt x="21881" y="11981"/>
                  <a:pt x="21899" y="11997"/>
                  <a:pt x="21927" y="11956"/>
                </a:cubicBezTo>
              </a:path>
              <a:path w="7343" h="1738">
                <a:moveTo>
                  <a:pt x="21977" y="11733"/>
                </a:moveTo>
                <a:cubicBezTo>
                  <a:pt x="21958" y="11880"/>
                  <a:pt x="21910" y="12013"/>
                  <a:pt x="21878" y="12154"/>
                </a:cubicBezTo>
                <a:cubicBezTo>
                  <a:pt x="21878" y="12171"/>
                  <a:pt x="21878" y="12187"/>
                  <a:pt x="21878" y="12204"/>
                </a:cubicBezTo>
              </a:path>
              <a:path w="7343" h="1738">
                <a:moveTo>
                  <a:pt x="22299" y="11857"/>
                </a:moveTo>
                <a:cubicBezTo>
                  <a:pt x="22275" y="11955"/>
                  <a:pt x="22238" y="12059"/>
                  <a:pt x="22200" y="12154"/>
                </a:cubicBezTo>
              </a:path>
              <a:path w="7343" h="1738">
                <a:moveTo>
                  <a:pt x="22126" y="12080"/>
                </a:moveTo>
                <a:cubicBezTo>
                  <a:pt x="22224" y="12055"/>
                  <a:pt x="22325" y="12022"/>
                  <a:pt x="22423" y="12005"/>
                </a:cubicBezTo>
              </a:path>
              <a:path w="7343" h="1738">
                <a:moveTo>
                  <a:pt x="22597" y="11832"/>
                </a:moveTo>
                <a:cubicBezTo>
                  <a:pt x="22652" y="11808"/>
                  <a:pt x="22686" y="11800"/>
                  <a:pt x="22746" y="11782"/>
                </a:cubicBezTo>
              </a:path>
              <a:path w="7343" h="1738">
                <a:moveTo>
                  <a:pt x="23118" y="11658"/>
                </a:moveTo>
                <a:cubicBezTo>
                  <a:pt x="23133" y="11614"/>
                  <a:pt x="23149" y="11633"/>
                  <a:pt x="23217" y="11633"/>
                </a:cubicBezTo>
                <a:cubicBezTo>
                  <a:pt x="23285" y="11790"/>
                  <a:pt x="23151" y="11869"/>
                  <a:pt x="23044" y="11981"/>
                </a:cubicBezTo>
                <a:cubicBezTo>
                  <a:pt x="23036" y="11989"/>
                  <a:pt x="23027" y="11997"/>
                  <a:pt x="23019" y="12005"/>
                </a:cubicBezTo>
                <a:cubicBezTo>
                  <a:pt x="23048" y="12003"/>
                  <a:pt x="23341" y="11966"/>
                  <a:pt x="23341" y="11981"/>
                </a:cubicBezTo>
                <a:cubicBezTo>
                  <a:pt x="23325" y="11989"/>
                  <a:pt x="23308" y="11997"/>
                  <a:pt x="23292" y="12005"/>
                </a:cubicBezTo>
              </a:path>
              <a:path w="7343" h="1738">
                <a:moveTo>
                  <a:pt x="20811" y="12427"/>
                </a:moveTo>
                <a:cubicBezTo>
                  <a:pt x="20988" y="12405"/>
                  <a:pt x="21153" y="12410"/>
                  <a:pt x="21332" y="12402"/>
                </a:cubicBezTo>
                <a:cubicBezTo>
                  <a:pt x="21815" y="12379"/>
                  <a:pt x="22289" y="12282"/>
                  <a:pt x="22771" y="12254"/>
                </a:cubicBezTo>
                <a:cubicBezTo>
                  <a:pt x="22852" y="12249"/>
                  <a:pt x="22937" y="12254"/>
                  <a:pt x="23019" y="12254"/>
                </a:cubicBezTo>
              </a:path>
              <a:path w="7343" h="1738">
                <a:moveTo>
                  <a:pt x="21357" y="12750"/>
                </a:moveTo>
                <a:cubicBezTo>
                  <a:pt x="21433" y="12750"/>
                  <a:pt x="21462" y="12751"/>
                  <a:pt x="21530" y="12725"/>
                </a:cubicBezTo>
              </a:path>
              <a:path w="7343" h="1738">
                <a:moveTo>
                  <a:pt x="21779" y="12551"/>
                </a:moveTo>
                <a:cubicBezTo>
                  <a:pt x="21779" y="12695"/>
                  <a:pt x="21726" y="12770"/>
                  <a:pt x="21679" y="12898"/>
                </a:cubicBezTo>
                <a:cubicBezTo>
                  <a:pt x="21658" y="12982"/>
                  <a:pt x="21642" y="13002"/>
                  <a:pt x="21679" y="13047"/>
                </a:cubicBezTo>
                <a:cubicBezTo>
                  <a:pt x="21876" y="13067"/>
                  <a:pt x="21964" y="13066"/>
                  <a:pt x="22076" y="12898"/>
                </a:cubicBezTo>
                <a:cubicBezTo>
                  <a:pt x="21954" y="12872"/>
                  <a:pt x="21931" y="12894"/>
                  <a:pt x="21903" y="13022"/>
                </a:cubicBezTo>
                <a:cubicBezTo>
                  <a:pt x="21903" y="13030"/>
                  <a:pt x="21903" y="13039"/>
                  <a:pt x="21903" y="13047"/>
                </a:cubicBezTo>
              </a:path>
              <a:path w="7343" h="1738">
                <a:moveTo>
                  <a:pt x="23242" y="12278"/>
                </a:moveTo>
                <a:cubicBezTo>
                  <a:pt x="23316" y="12278"/>
                  <a:pt x="23391" y="12278"/>
                  <a:pt x="23465" y="12278"/>
                </a:cubicBezTo>
              </a:path>
              <a:path w="7343" h="1738">
                <a:moveTo>
                  <a:pt x="23192" y="12477"/>
                </a:moveTo>
                <a:cubicBezTo>
                  <a:pt x="23285" y="12462"/>
                  <a:pt x="23347" y="12452"/>
                  <a:pt x="23440" y="12452"/>
                </a:cubicBezTo>
              </a:path>
              <a:path w="7343" h="1738">
                <a:moveTo>
                  <a:pt x="24036" y="11683"/>
                </a:moveTo>
                <a:cubicBezTo>
                  <a:pt x="24036" y="11611"/>
                  <a:pt x="24044" y="11736"/>
                  <a:pt x="24085" y="11683"/>
                </a:cubicBezTo>
                <a:cubicBezTo>
                  <a:pt x="24085" y="11658"/>
                  <a:pt x="24085" y="11650"/>
                  <a:pt x="24110" y="11658"/>
                </a:cubicBezTo>
                <a:cubicBezTo>
                  <a:pt x="24176" y="11724"/>
                  <a:pt x="24096" y="11789"/>
                  <a:pt x="24036" y="11857"/>
                </a:cubicBezTo>
                <a:cubicBezTo>
                  <a:pt x="24114" y="11857"/>
                  <a:pt x="24107" y="11873"/>
                  <a:pt x="24110" y="11956"/>
                </a:cubicBezTo>
                <a:cubicBezTo>
                  <a:pt x="24114" y="12062"/>
                  <a:pt x="24055" y="12136"/>
                  <a:pt x="23961" y="12080"/>
                </a:cubicBezTo>
                <a:cubicBezTo>
                  <a:pt x="23996" y="12080"/>
                  <a:pt x="24014" y="12075"/>
                  <a:pt x="24036" y="12055"/>
                </a:cubicBezTo>
              </a:path>
              <a:path w="7343" h="1738">
                <a:moveTo>
                  <a:pt x="24433" y="11683"/>
                </a:moveTo>
                <a:cubicBezTo>
                  <a:pt x="24433" y="11630"/>
                  <a:pt x="24389" y="11844"/>
                  <a:pt x="24383" y="11857"/>
                </a:cubicBezTo>
                <a:cubicBezTo>
                  <a:pt x="24320" y="11962"/>
                  <a:pt x="24303" y="11982"/>
                  <a:pt x="24284" y="12055"/>
                </a:cubicBezTo>
              </a:path>
              <a:path w="7343" h="1738">
                <a:moveTo>
                  <a:pt x="24606" y="11683"/>
                </a:moveTo>
                <a:cubicBezTo>
                  <a:pt x="24606" y="11675"/>
                  <a:pt x="24606" y="11666"/>
                  <a:pt x="24606" y="11658"/>
                </a:cubicBezTo>
                <a:cubicBezTo>
                  <a:pt x="24606" y="11592"/>
                  <a:pt x="24586" y="11706"/>
                  <a:pt x="24631" y="11683"/>
                </a:cubicBezTo>
                <a:cubicBezTo>
                  <a:pt x="24708" y="11645"/>
                  <a:pt x="24732" y="11561"/>
                  <a:pt x="24755" y="11733"/>
                </a:cubicBezTo>
                <a:cubicBezTo>
                  <a:pt x="24770" y="11847"/>
                  <a:pt x="24703" y="12027"/>
                  <a:pt x="24557" y="12005"/>
                </a:cubicBezTo>
                <a:cubicBezTo>
                  <a:pt x="24540" y="11997"/>
                  <a:pt x="24524" y="11989"/>
                  <a:pt x="24507" y="11981"/>
                </a:cubicBezTo>
                <a:cubicBezTo>
                  <a:pt x="24550" y="11895"/>
                  <a:pt x="24651" y="11894"/>
                  <a:pt x="24730" y="11956"/>
                </a:cubicBezTo>
                <a:cubicBezTo>
                  <a:pt x="24730" y="11964"/>
                  <a:pt x="24730" y="11973"/>
                  <a:pt x="24730" y="11981"/>
                </a:cubicBezTo>
              </a:path>
              <a:path w="7343" h="1738">
                <a:moveTo>
                  <a:pt x="23912" y="12204"/>
                </a:moveTo>
                <a:cubicBezTo>
                  <a:pt x="23975" y="12268"/>
                  <a:pt x="24315" y="12190"/>
                  <a:pt x="24408" y="12179"/>
                </a:cubicBezTo>
                <a:cubicBezTo>
                  <a:pt x="24529" y="12165"/>
                  <a:pt x="24614" y="12154"/>
                  <a:pt x="24730" y="12154"/>
                </a:cubicBezTo>
              </a:path>
              <a:path w="7343" h="1738">
                <a:moveTo>
                  <a:pt x="23961" y="12576"/>
                </a:moveTo>
                <a:cubicBezTo>
                  <a:pt x="23961" y="12528"/>
                  <a:pt x="24045" y="12551"/>
                  <a:pt x="24085" y="12551"/>
                </a:cubicBezTo>
              </a:path>
              <a:path w="7343" h="1738">
                <a:moveTo>
                  <a:pt x="24234" y="12353"/>
                </a:moveTo>
                <a:cubicBezTo>
                  <a:pt x="24213" y="12479"/>
                  <a:pt x="24132" y="12547"/>
                  <a:pt x="24085" y="12650"/>
                </a:cubicBezTo>
                <a:cubicBezTo>
                  <a:pt x="24085" y="12667"/>
                  <a:pt x="24085" y="12683"/>
                  <a:pt x="24085" y="12700"/>
                </a:cubicBezTo>
                <a:cubicBezTo>
                  <a:pt x="24170" y="12769"/>
                  <a:pt x="24303" y="12754"/>
                  <a:pt x="24408" y="12675"/>
                </a:cubicBezTo>
                <a:cubicBezTo>
                  <a:pt x="24408" y="12650"/>
                  <a:pt x="24408" y="12642"/>
                  <a:pt x="24408" y="12626"/>
                </a:cubicBezTo>
                <a:cubicBezTo>
                  <a:pt x="24333" y="12655"/>
                  <a:pt x="24282" y="12694"/>
                  <a:pt x="24358" y="12725"/>
                </a:cubicBezTo>
              </a:path>
              <a:path w="7343" h="1738">
                <a:moveTo>
                  <a:pt x="24904" y="12229"/>
                </a:moveTo>
                <a:cubicBezTo>
                  <a:pt x="24969" y="12277"/>
                  <a:pt x="25044" y="12275"/>
                  <a:pt x="25127" y="12278"/>
                </a:cubicBezTo>
                <a:cubicBezTo>
                  <a:pt x="25169" y="12278"/>
                  <a:pt x="25194" y="12278"/>
                  <a:pt x="25152" y="12278"/>
                </a:cubicBezTo>
              </a:path>
              <a:path w="7343" h="1738">
                <a:moveTo>
                  <a:pt x="24879" y="12427"/>
                </a:moveTo>
                <a:cubicBezTo>
                  <a:pt x="24980" y="12419"/>
                  <a:pt x="25075" y="12402"/>
                  <a:pt x="25177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0000" y="4795920"/>
            <a:ext cx="777960" cy="571320"/>
          </a:xfrm>
          <a:custGeom>
            <a:avLst/>
            <a:gdLst/>
            <a:ahLst/>
            <a:rect l="l" t="t" r="r" b="b"/>
            <a:pathLst>
              <a:path w="2159" h="1589">
                <a:moveTo>
                  <a:pt x="22448" y="14238"/>
                </a:moveTo>
                <a:cubicBezTo>
                  <a:pt x="22533" y="14281"/>
                  <a:pt x="22628" y="14237"/>
                  <a:pt x="22721" y="14263"/>
                </a:cubicBezTo>
                <a:cubicBezTo>
                  <a:pt x="22729" y="14271"/>
                  <a:pt x="22738" y="14280"/>
                  <a:pt x="22746" y="14288"/>
                </a:cubicBezTo>
              </a:path>
              <a:path w="2159" h="1589">
                <a:moveTo>
                  <a:pt x="23068" y="14039"/>
                </a:moveTo>
                <a:cubicBezTo>
                  <a:pt x="23036" y="14091"/>
                  <a:pt x="23002" y="14136"/>
                  <a:pt x="22969" y="14188"/>
                </a:cubicBezTo>
                <a:cubicBezTo>
                  <a:pt x="23062" y="14197"/>
                  <a:pt x="23222" y="14201"/>
                  <a:pt x="23192" y="14337"/>
                </a:cubicBezTo>
                <a:cubicBezTo>
                  <a:pt x="23172" y="14425"/>
                  <a:pt x="22998" y="14577"/>
                  <a:pt x="22920" y="14461"/>
                </a:cubicBezTo>
                <a:cubicBezTo>
                  <a:pt x="22912" y="14436"/>
                  <a:pt x="22903" y="14412"/>
                  <a:pt x="22895" y="14387"/>
                </a:cubicBezTo>
              </a:path>
              <a:path w="2159" h="1589">
                <a:moveTo>
                  <a:pt x="23068" y="14039"/>
                </a:moveTo>
                <a:cubicBezTo>
                  <a:pt x="23144" y="14030"/>
                  <a:pt x="23220" y="13995"/>
                  <a:pt x="23292" y="13990"/>
                </a:cubicBezTo>
                <a:cubicBezTo>
                  <a:pt x="23308" y="13990"/>
                  <a:pt x="23325" y="13990"/>
                  <a:pt x="23341" y="13990"/>
                </a:cubicBezTo>
              </a:path>
              <a:path w="2159" h="1589">
                <a:moveTo>
                  <a:pt x="23515" y="13940"/>
                </a:moveTo>
                <a:cubicBezTo>
                  <a:pt x="23495" y="14021"/>
                  <a:pt x="23486" y="13976"/>
                  <a:pt x="23564" y="13965"/>
                </a:cubicBezTo>
                <a:cubicBezTo>
                  <a:pt x="23589" y="13965"/>
                  <a:pt x="23614" y="13965"/>
                  <a:pt x="23639" y="13965"/>
                </a:cubicBezTo>
                <a:cubicBezTo>
                  <a:pt x="23732" y="14152"/>
                  <a:pt x="23718" y="14269"/>
                  <a:pt x="23515" y="14387"/>
                </a:cubicBezTo>
                <a:cubicBezTo>
                  <a:pt x="23420" y="14411"/>
                  <a:pt x="23390" y="14422"/>
                  <a:pt x="23341" y="14362"/>
                </a:cubicBezTo>
                <a:cubicBezTo>
                  <a:pt x="23365" y="14241"/>
                  <a:pt x="23480" y="14219"/>
                  <a:pt x="23589" y="14263"/>
                </a:cubicBezTo>
                <a:cubicBezTo>
                  <a:pt x="23615" y="14274"/>
                  <a:pt x="23714" y="14403"/>
                  <a:pt x="23688" y="14436"/>
                </a:cubicBezTo>
                <a:cubicBezTo>
                  <a:pt x="23680" y="14436"/>
                  <a:pt x="23672" y="14436"/>
                  <a:pt x="23664" y="14436"/>
                </a:cubicBezTo>
              </a:path>
              <a:path w="2159" h="1589">
                <a:moveTo>
                  <a:pt x="22051" y="14759"/>
                </a:moveTo>
                <a:cubicBezTo>
                  <a:pt x="22171" y="14793"/>
                  <a:pt x="22297" y="14811"/>
                  <a:pt x="22423" y="14833"/>
                </a:cubicBezTo>
                <a:cubicBezTo>
                  <a:pt x="22808" y="14900"/>
                  <a:pt x="23177" y="14948"/>
                  <a:pt x="23564" y="14858"/>
                </a:cubicBezTo>
                <a:cubicBezTo>
                  <a:pt x="23783" y="14807"/>
                  <a:pt x="24099" y="14716"/>
                  <a:pt x="24160" y="14461"/>
                </a:cubicBezTo>
                <a:cubicBezTo>
                  <a:pt x="24188" y="14344"/>
                  <a:pt x="24183" y="14102"/>
                  <a:pt x="24135" y="13990"/>
                </a:cubicBezTo>
                <a:cubicBezTo>
                  <a:pt x="24049" y="13789"/>
                  <a:pt x="23952" y="13636"/>
                  <a:pt x="23763" y="13519"/>
                </a:cubicBezTo>
                <a:cubicBezTo>
                  <a:pt x="23586" y="13410"/>
                  <a:pt x="23302" y="13320"/>
                  <a:pt x="23093" y="13320"/>
                </a:cubicBezTo>
                <a:cubicBezTo>
                  <a:pt x="22863" y="13320"/>
                  <a:pt x="22634" y="13413"/>
                  <a:pt x="22448" y="13543"/>
                </a:cubicBezTo>
                <a:cubicBezTo>
                  <a:pt x="22244" y="13685"/>
                  <a:pt x="22141" y="13892"/>
                  <a:pt x="22051" y="14114"/>
                </a:cubicBezTo>
                <a:cubicBezTo>
                  <a:pt x="21985" y="14278"/>
                  <a:pt x="22011" y="14480"/>
                  <a:pt x="22151" y="14610"/>
                </a:cubicBezTo>
                <a:cubicBezTo>
                  <a:pt x="22267" y="14718"/>
                  <a:pt x="22403" y="14739"/>
                  <a:pt x="22547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age 75   2-14 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age 76  20-3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8:16:41Z</dcterms:created>
  <dc:creator>ccps</dc:creator>
  <dc:description/>
  <dc:language>en-US</dc:language>
  <cp:lastModifiedBy>deanne elizabeth mcgrath</cp:lastModifiedBy>
  <dcterms:modified xsi:type="dcterms:W3CDTF">2011-12-12T20:29:48Z</dcterms:modified>
  <cp:revision>13</cp:revision>
  <dc:subject/>
  <dc:title>Obj 2.5:  To divide Integers.</dc:title>
</cp:coreProperties>
</file>